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26.wmf" ContentType="image/x-wmf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9.wmf" ContentType="image/x-wmf"/>
  <Override PartName="/ppt/media/image30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2.wmf" ContentType="image/x-wmf"/>
  <Override PartName="/ppt/media/image36.wmf" ContentType="image/x-wmf"/>
  <Override PartName="/ppt/media/image42.png" ContentType="image/png"/>
  <Override PartName="/ppt/media/image11.jpeg" ContentType="image/jpeg"/>
  <Override PartName="/ppt/media/image38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F08A-42B8-455A-923A-D695400D8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7AE2-9842-456A-A4EC-78748568D2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8C6-EF9C-45EC-A11E-651AD8CD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179-D84C-4422-A525-0A5D5538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C2AB-401C-473D-90EC-0F67E3A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E61-1EC3-49CD-A52E-81D471A9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98E-69DC-4A66-B07C-1D55637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71F-1084-4FB1-9382-F651FE45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F6B-4BFE-45F4-A789-615F5F9A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271-5DFD-4B0C-94CA-548D86F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648-3D0A-4688-9C7A-B056859C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978-2523-40D6-A88C-8C882DDF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065-99E5-49D9-BBFC-273F8B5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1F3-3F11-4A36-BAFE-5211AF4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5E51-D8C8-4F80-B1A3-DDE984290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ЗОЛОТУХИНСКОГО РАЙОНА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ff"/>
                </a:solidFill>
                <a:latin typeface="Times New Roman"/>
              </a:rPr>
              <a:t>К годовому отчету  об исполнении бюджета Золотухинского района Курской области за 201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D:\Документы\ОТ МЕНЯ\zolotuhino.jpg"/>
          <p:cNvPicPr/>
          <p:nvPr/>
        </p:nvPicPr>
        <p:blipFill>
          <a:blip r:embed="rId1"/>
          <a:stretch/>
        </p:blipFill>
        <p:spPr>
          <a:xfrm>
            <a:off x="3595680" y="1320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D:\Документы\ОТ МЕНЯ\zolotukhino_rayon_coa_n9441.gif"/>
          <p:cNvPicPr/>
          <p:nvPr/>
        </p:nvPicPr>
        <p:blipFill>
          <a:blip r:embed="rId2"/>
          <a:stretch/>
        </p:blipFill>
        <p:spPr>
          <a:xfrm>
            <a:off x="4071960" y="285840"/>
            <a:ext cx="771480" cy="99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Документы\ОТ МЕНЯ\0_f6eed_8bfb3d9b_M.jpg"/>
          <p:cNvPicPr/>
          <p:nvPr/>
        </p:nvPicPr>
        <p:blipFill>
          <a:blip r:embed="rId3"/>
          <a:stretch/>
        </p:blipFill>
        <p:spPr>
          <a:xfrm>
            <a:off x="6357960" y="4214880"/>
            <a:ext cx="2286000" cy="157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User\Рабочий стол\56264550.jpg"/>
          <p:cNvPicPr/>
          <p:nvPr/>
        </p:nvPicPr>
        <p:blipFill>
          <a:blip r:embed="rId4"/>
          <a:stretch/>
        </p:blipFill>
        <p:spPr>
          <a:xfrm>
            <a:off x="285840" y="4286160"/>
            <a:ext cx="242892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Налог на доходы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12"/>
          <p:cNvGraphicFramePr/>
          <p:nvPr/>
        </p:nvGraphicFramePr>
        <p:xfrm>
          <a:off x="3276720" y="409680"/>
          <a:ext cx="500040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9680"/>
                    <a:ext cx="500040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17" descr="917895595"/>
          <p:cNvPicPr/>
          <p:nvPr/>
        </p:nvPicPr>
        <p:blipFill>
          <a:blip r:embed="rId3"/>
          <a:stretch/>
        </p:blipFill>
        <p:spPr>
          <a:xfrm>
            <a:off x="0" y="1052640"/>
            <a:ext cx="3095640" cy="2062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549429"/>
          <p:cNvPicPr/>
          <p:nvPr/>
        </p:nvPicPr>
        <p:blipFill>
          <a:blip r:embed="rId4"/>
          <a:stretch/>
        </p:blipFill>
        <p:spPr>
          <a:xfrm>
            <a:off x="6033960" y="4525920"/>
            <a:ext cx="3110040" cy="233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big_3"/>
          <p:cNvPicPr/>
          <p:nvPr/>
        </p:nvPicPr>
        <p:blipFill>
          <a:blip r:embed="rId5"/>
          <a:stretch/>
        </p:blipFill>
        <p:spPr>
          <a:xfrm>
            <a:off x="1332000" y="4292640"/>
            <a:ext cx="3357360" cy="2014560"/>
          </a:xfrm>
          <a:prstGeom prst="rect">
            <a:avLst/>
          </a:prstGeom>
          <a:ln w="0">
            <a:noFill/>
          </a:ln>
        </p:spPr>
      </p:pic>
    </p:spTree>
  </p:cSld>
  <p:transition advTm="6000">
    <p:split dir="in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Налоги на совокупный д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-257040" y="1486080"/>
          <a:ext cx="4886280" cy="389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1486080"/>
                    <a:ext cx="488628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9" descr="1326962390_519a2ebdbd25743ea1a5baefebd2a85d"/>
          <p:cNvPicPr/>
          <p:nvPr/>
        </p:nvPicPr>
        <p:blipFill>
          <a:blip r:embed="rId3"/>
          <a:stretch/>
        </p:blipFill>
        <p:spPr>
          <a:xfrm>
            <a:off x="5364000" y="0"/>
            <a:ext cx="2811600" cy="3214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8766539525"/>
          <p:cNvPicPr/>
          <p:nvPr/>
        </p:nvPicPr>
        <p:blipFill>
          <a:blip r:embed="rId4"/>
          <a:stretch/>
        </p:blipFill>
        <p:spPr>
          <a:xfrm>
            <a:off x="5435640" y="3643200"/>
            <a:ext cx="2820960" cy="29718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езвозмездные поступления из областного бюджета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 2017 год (в сравнении с 2015 и 2016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76320" y="982800"/>
          <a:ext cx="9172440" cy="51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82800"/>
                    <a:ext cx="917244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9" descr="81a709653a20b3944532620b1242f338"/>
          <p:cNvPicPr/>
          <p:nvPr/>
        </p:nvPicPr>
        <p:blipFill>
          <a:blip r:embed="rId3"/>
          <a:stretch/>
        </p:blipFill>
        <p:spPr>
          <a:xfrm>
            <a:off x="0" y="198900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за 2017 год 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(в сравнении с 2015 и 201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2920" y="1000080"/>
          <a:ext cx="8785080" cy="521496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1727280"/>
                <a:gridCol w="1728720"/>
                <a:gridCol w="1584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 88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9 79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 57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8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6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33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1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408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22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249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 36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 499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60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117,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885,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 019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2 25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292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521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068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56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94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8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214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1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3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68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8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4160" y="1057320"/>
          <a:ext cx="7939080" cy="5041800"/>
        </p:xfrm>
        <a:graphic>
          <a:graphicData uri="http://schemas.openxmlformats.org/drawingml/2006/table">
            <a:tbl>
              <a:tblPr/>
              <a:tblGrid>
                <a:gridCol w="857160"/>
                <a:gridCol w="4024080"/>
                <a:gridCol w="1549440"/>
                <a:gridCol w="1508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2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579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243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33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1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0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57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33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1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0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7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2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0880" y="1074600"/>
          <a:ext cx="7697880" cy="4545000"/>
        </p:xfrm>
        <a:graphic>
          <a:graphicData uri="http://schemas.openxmlformats.org/drawingml/2006/table">
            <a:tbl>
              <a:tblPr/>
              <a:tblGrid>
                <a:gridCol w="789120"/>
                <a:gridCol w="3589200"/>
                <a:gridCol w="1630440"/>
                <a:gridCol w="16891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45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22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4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1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ожарной безопас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8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76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499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91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820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69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06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85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71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50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устройств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жилищно-коммунального хозяй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4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4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50880" y="1000080"/>
          <a:ext cx="7778880" cy="5873760"/>
        </p:xfrm>
        <a:graphic>
          <a:graphicData uri="http://schemas.openxmlformats.org/drawingml/2006/table">
            <a:tbl>
              <a:tblPr/>
              <a:tblGrid>
                <a:gridCol w="838080"/>
                <a:gridCol w="3357720"/>
                <a:gridCol w="1855800"/>
                <a:gridCol w="1727280"/>
              </a:tblGrid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602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29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84,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31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958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465,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98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32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и и оздоровление дет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3,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2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17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4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45,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956,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04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89,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40,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7,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получ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,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17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14,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0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90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9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1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94,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98,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940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2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,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расходов областного бюджет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по разделам и подразделам функциональной классификации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 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71480" y="1074600"/>
          <a:ext cx="7094520" cy="2968920"/>
        </p:xfrm>
        <a:graphic>
          <a:graphicData uri="http://schemas.openxmlformats.org/drawingml/2006/table">
            <a:tbl>
              <a:tblPr/>
              <a:tblGrid>
                <a:gridCol w="789120"/>
                <a:gridCol w="3287520"/>
                <a:gridCol w="1535040"/>
                <a:gridCol w="14828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, подразде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9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,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бюджетной системы Российской Федерац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05240"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106560" rIns="106560" tIns="55440" bIns="55440" anchor="b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Расходы бюджета Золотухинского района на социально-культурную сф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6"/>
          <p:cNvGrpSpPr/>
          <p:nvPr/>
        </p:nvGrpSpPr>
        <p:grpSpPr>
          <a:xfrm>
            <a:off x="4140360" y="4457880"/>
            <a:ext cx="2514600" cy="2400120"/>
            <a:chOff x="4140360" y="4457880"/>
            <a:chExt cx="2514600" cy="2400120"/>
          </a:xfrm>
        </p:grpSpPr>
        <p:sp>
          <p:nvSpPr>
            <p:cNvPr id="104" name="Rectangle 27"/>
            <p:cNvSpPr/>
            <p:nvPr/>
          </p:nvSpPr>
          <p:spPr>
            <a:xfrm>
              <a:off x="4140360" y="4457880"/>
              <a:ext cx="2514600" cy="24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800080"/>
                  </a:solidFill>
                  <a:latin typeface="Times New Roman"/>
                </a:rPr>
                <a:t>2016 год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8"/>
            <p:cNvGrpSpPr/>
            <p:nvPr/>
          </p:nvGrpSpPr>
          <p:grpSpPr>
            <a:xfrm>
              <a:off x="4597560" y="5143320"/>
              <a:ext cx="1600200" cy="1600200"/>
              <a:chOff x="4597560" y="5143320"/>
              <a:chExt cx="1600200" cy="1600200"/>
            </a:xfrm>
          </p:grpSpPr>
          <p:sp>
            <p:nvSpPr>
              <p:cNvPr id="106" name="Oval 29"/>
              <p:cNvSpPr/>
              <p:nvPr/>
            </p:nvSpPr>
            <p:spPr>
              <a:xfrm>
                <a:off x="4597560" y="5143320"/>
                <a:ext cx="1600200" cy="160020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30"/>
              <p:cNvSpPr/>
              <p:nvPr/>
            </p:nvSpPr>
            <p:spPr>
              <a:xfrm>
                <a:off x="5054760" y="5486040"/>
                <a:ext cx="1119600" cy="11192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69,3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Rectangle 53"/>
          <p:cNvSpPr/>
          <p:nvPr/>
        </p:nvSpPr>
        <p:spPr>
          <a:xfrm>
            <a:off x="2050920" y="4221000"/>
            <a:ext cx="25146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2015 го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5"/>
          <p:cNvSpPr/>
          <p:nvPr/>
        </p:nvSpPr>
        <p:spPr>
          <a:xfrm>
            <a:off x="2508120" y="4906800"/>
            <a:ext cx="1600200" cy="159732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764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1" descr="50a33244-e6b8-ed44-e6b8-ed4bf517dca8"/>
          <p:cNvPicPr/>
          <p:nvPr/>
        </p:nvPicPr>
        <p:blipFill>
          <a:blip r:embed="rId1"/>
          <a:stretch/>
        </p:blipFill>
        <p:spPr>
          <a:xfrm>
            <a:off x="6340320" y="4995720"/>
            <a:ext cx="2803680" cy="18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4" descr="190af5732bd3772060f9962e8fb6fff1"/>
          <p:cNvPicPr/>
          <p:nvPr/>
        </p:nvPicPr>
        <p:blipFill>
          <a:blip r:embed="rId2"/>
          <a:stretch/>
        </p:blipFill>
        <p:spPr>
          <a:xfrm>
            <a:off x="6012000" y="3141720"/>
            <a:ext cx="2811240" cy="1666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5" descr="krkpy"/>
          <p:cNvPicPr/>
          <p:nvPr/>
        </p:nvPicPr>
        <p:blipFill>
          <a:blip r:embed="rId3"/>
          <a:stretch/>
        </p:blipFill>
        <p:spPr>
          <a:xfrm>
            <a:off x="5724360" y="1125360"/>
            <a:ext cx="2786400" cy="185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8"/>
          <p:cNvSpPr/>
          <p:nvPr/>
        </p:nvSpPr>
        <p:spPr>
          <a:xfrm>
            <a:off x="-6120" y="3572640"/>
            <a:ext cx="594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660066"/>
                </a:solidFill>
                <a:uFillTx/>
                <a:latin typeface="Times New Roman"/>
              </a:rPr>
              <a:t>Доля расходов на социально-культурную сферу в общих расходах 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0"/>
          <p:cNvSpPr/>
          <p:nvPr/>
        </p:nvSpPr>
        <p:spPr>
          <a:xfrm>
            <a:off x="0" y="1085400"/>
            <a:ext cx="5732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Расходы на социально-культурную сферу Золотухинского района Курской области включают в себя следующие направления расходования средств районного бюджета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образование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социальная политика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культура, кинематография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Times New Roman"/>
              </a:rPr>
              <a:t>- физическая культура и спорт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Group 74"/>
          <p:cNvGrpSpPr/>
          <p:nvPr/>
        </p:nvGrpSpPr>
        <p:grpSpPr>
          <a:xfrm>
            <a:off x="0" y="3860640"/>
            <a:ext cx="2514600" cy="2400480"/>
            <a:chOff x="0" y="3860640"/>
            <a:chExt cx="2514600" cy="2400480"/>
          </a:xfrm>
        </p:grpSpPr>
        <p:grpSp>
          <p:nvGrpSpPr>
            <p:cNvPr id="116" name="Group 35"/>
            <p:cNvGrpSpPr/>
            <p:nvPr/>
          </p:nvGrpSpPr>
          <p:grpSpPr>
            <a:xfrm>
              <a:off x="0" y="3860640"/>
              <a:ext cx="2514600" cy="2400480"/>
              <a:chOff x="0" y="3860640"/>
              <a:chExt cx="2514600" cy="2400480"/>
            </a:xfrm>
          </p:grpSpPr>
          <p:sp>
            <p:nvSpPr>
              <p:cNvPr id="117" name="Rectangle 36"/>
              <p:cNvSpPr/>
              <p:nvPr/>
            </p:nvSpPr>
            <p:spPr>
              <a:xfrm>
                <a:off x="0" y="3860640"/>
                <a:ext cx="2514600" cy="24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800080"/>
                    </a:solidFill>
                    <a:latin typeface="Times New Roman"/>
                  </a:rPr>
                  <a:t>2014 год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37"/>
              <p:cNvSpPr/>
              <p:nvPr/>
            </p:nvSpPr>
            <p:spPr>
              <a:xfrm>
                <a:off x="457200" y="4546440"/>
                <a:ext cx="1600200" cy="1600560"/>
              </a:xfrm>
              <a:prstGeom prst="ellipse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7647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71"/>
            <p:cNvGrpSpPr/>
            <p:nvPr/>
          </p:nvGrpSpPr>
          <p:grpSpPr>
            <a:xfrm>
              <a:off x="539640" y="4437000"/>
              <a:ext cx="1789200" cy="1708200"/>
              <a:chOff x="539640" y="4437000"/>
              <a:chExt cx="1789200" cy="1708200"/>
            </a:xfrm>
          </p:grpSpPr>
          <p:sp>
            <p:nvSpPr>
              <p:cNvPr id="120" name="Rectangle 72"/>
              <p:cNvSpPr/>
              <p:nvPr/>
            </p:nvSpPr>
            <p:spPr>
              <a:xfrm>
                <a:off x="539640" y="4437000"/>
                <a:ext cx="1789200" cy="17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73"/>
              <p:cNvSpPr/>
              <p:nvPr/>
            </p:nvSpPr>
            <p:spPr>
              <a:xfrm>
                <a:off x="864720" y="4924800"/>
                <a:ext cx="1138680" cy="113904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89,6 %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Oval 75"/>
          <p:cNvSpPr/>
          <p:nvPr/>
        </p:nvSpPr>
        <p:spPr>
          <a:xfrm>
            <a:off x="2916360" y="5229360"/>
            <a:ext cx="1150920" cy="11491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2,2 %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12280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 в 2017 году на образование –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295292,3тыс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Object 8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7072200" cy="528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197"/>
          <p:cNvPicPr/>
          <p:nvPr/>
        </p:nvPicPr>
        <p:blipFill>
          <a:blip r:embed="rId2"/>
          <a:stretch/>
        </p:blipFill>
        <p:spPr>
          <a:xfrm>
            <a:off x="622764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bibblio"/>
          <p:cNvPicPr/>
          <p:nvPr/>
        </p:nvPicPr>
        <p:blipFill>
          <a:blip r:embed="rId3"/>
          <a:stretch/>
        </p:blipFill>
        <p:spPr>
          <a:xfrm>
            <a:off x="0" y="1268280"/>
            <a:ext cx="2664000" cy="144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7e2ff2a94d93e2fff55457dc8926d027_M1"/>
          <p:cNvPicPr/>
          <p:nvPr/>
        </p:nvPicPr>
        <p:blipFill>
          <a:blip r:embed="rId4"/>
          <a:stretch/>
        </p:blipFill>
        <p:spPr>
          <a:xfrm>
            <a:off x="6156360" y="0"/>
            <a:ext cx="2289240" cy="242892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102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Меры социальной поддержки, оказываемые педагогическим работникам Золотухинского района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2920" y="1571760"/>
          <a:ext cx="8785080" cy="2292120"/>
        </p:xfrm>
        <a:graphic>
          <a:graphicData uri="http://schemas.openxmlformats.org/drawingml/2006/table">
            <a:tbl>
              <a:tblPr/>
              <a:tblGrid>
                <a:gridCol w="6192720"/>
                <a:gridCol w="1079640"/>
                <a:gridCol w="151272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лучате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,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компенсация стоимости проезда  к месту работы  и обратно педагогическим работникам образовательных учреждений, расположенных в сельской местно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единовременного пособия на хозяйственное обзаведение в размере 6 должностных окладов (ставок заработной платы) выпускникам образовательных учреждений высшего профессионального и среднего профессионального образования, прибывшим на работу в сельские образовательные учрежд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6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p:transition advTm="7000">
    <p:split dir="in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3366"/>
                </a:solidFill>
                <a:latin typeface="Times New Roman"/>
              </a:rPr>
              <a:t>Молодежная политика и оздоровление дет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03_o28377793"/>
          <p:cNvPicPr/>
          <p:nvPr/>
        </p:nvPicPr>
        <p:blipFill>
          <a:blip r:embed="rId1"/>
          <a:stretch/>
        </p:blipFill>
        <p:spPr>
          <a:xfrm>
            <a:off x="0" y="981000"/>
            <a:ext cx="2457360" cy="180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627280" y="981000"/>
          <a:ext cx="6372360" cy="1135080"/>
        </p:xfrm>
        <a:graphic>
          <a:graphicData uri="http://schemas.openxmlformats.org/drawingml/2006/table">
            <a:tbl>
              <a:tblPr/>
              <a:tblGrid>
                <a:gridCol w="3816360"/>
                <a:gridCol w="1224000"/>
                <a:gridCol w="1332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личество дет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 2017 год,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здоровление и отдых детей Золотухинского района Курской области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9,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86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: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89,8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33" name="Picture 150" descr="015707"/>
          <p:cNvPicPr/>
          <p:nvPr/>
        </p:nvPicPr>
        <p:blipFill>
          <a:blip r:embed="rId2"/>
          <a:stretch/>
        </p:blipFill>
        <p:spPr>
          <a:xfrm>
            <a:off x="5214960" y="2928960"/>
            <a:ext cx="2476440" cy="18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4" descr="в бассейне"/>
          <p:cNvPicPr/>
          <p:nvPr/>
        </p:nvPicPr>
        <p:blipFill>
          <a:blip r:embed="rId3"/>
          <a:stretch/>
        </p:blipFill>
        <p:spPr>
          <a:xfrm>
            <a:off x="642960" y="3714840"/>
            <a:ext cx="2471760" cy="164304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в 2017 году 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на культуру, кинематографию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– 25956,9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D:\Документы\ОТ МЕНЯ\ДК.jpg"/>
          <p:cNvPicPr/>
          <p:nvPr/>
        </p:nvPicPr>
        <p:blipFill>
          <a:blip r:embed="rId1"/>
          <a:stretch/>
        </p:blipFill>
        <p:spPr>
          <a:xfrm>
            <a:off x="428760" y="1428840"/>
            <a:ext cx="3357360" cy="307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4"/>
          <p:cNvGraphicFramePr/>
          <p:nvPr/>
        </p:nvGraphicFramePr>
        <p:xfrm>
          <a:off x="243000" y="1057320"/>
          <a:ext cx="893268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000" y="1057320"/>
                    <a:ext cx="89326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асходы бюджета Золотухинского района в 2017 году на социальную политику – 40 214,2тыс. рубле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-25560" y="1028880"/>
          <a:ext cx="953928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1028880"/>
                    <a:ext cx="953928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Picture 5" descr="1JrYlD9Gn3o"/>
          <p:cNvPicPr/>
          <p:nvPr/>
        </p:nvPicPr>
        <p:blipFill>
          <a:blip r:embed="rId3"/>
          <a:stretch/>
        </p:blipFill>
        <p:spPr>
          <a:xfrm>
            <a:off x="0" y="981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образов-е"/>
          <p:cNvPicPr/>
          <p:nvPr/>
        </p:nvPicPr>
        <p:blipFill>
          <a:blip r:embed="rId4"/>
          <a:stretch/>
        </p:blipFill>
        <p:spPr>
          <a:xfrm>
            <a:off x="3429000" y="4000680"/>
            <a:ext cx="1681200" cy="156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0341771_1"/>
          <p:cNvPicPr/>
          <p:nvPr/>
        </p:nvPicPr>
        <p:blipFill>
          <a:blip r:embed="rId5"/>
          <a:stretch/>
        </p:blipFill>
        <p:spPr>
          <a:xfrm>
            <a:off x="1042920" y="2708280"/>
            <a:ext cx="2289240" cy="1550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1JrYlD9Gn3o"/>
          <p:cNvPicPr/>
          <p:nvPr/>
        </p:nvPicPr>
        <p:blipFill>
          <a:blip r:embed="rId6"/>
          <a:stretch/>
        </p:blipFill>
        <p:spPr>
          <a:xfrm>
            <a:off x="0" y="92880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9900"/>
                </a:solidFill>
                <a:latin typeface="Times New Roman"/>
              </a:rPr>
              <a:t>Расходы бюджета Золотухинского района  </a:t>
            </a:r>
            <a:br>
              <a:rPr sz="2300"/>
            </a:br>
            <a:r>
              <a:rPr b="1" lang="ru-RU" sz="2300" spc="-1" strike="noStrike">
                <a:solidFill>
                  <a:srgbClr val="009900"/>
                </a:solidFill>
                <a:latin typeface="Times New Roman"/>
              </a:rPr>
              <a:t>на охрану семьи и дет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monkimage"/>
          <p:cNvPicPr/>
          <p:nvPr/>
        </p:nvPicPr>
        <p:blipFill>
          <a:blip r:embed="rId1"/>
          <a:stretch/>
        </p:blipFill>
        <p:spPr>
          <a:xfrm>
            <a:off x="6084720" y="285840"/>
            <a:ext cx="2922840" cy="20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42920" y="2786040"/>
          <a:ext cx="8893080" cy="1484280"/>
        </p:xfrm>
        <a:graphic>
          <a:graphicData uri="http://schemas.openxmlformats.org/drawingml/2006/table">
            <a:tbl>
              <a:tblPr/>
              <a:tblGrid>
                <a:gridCol w="7289640"/>
                <a:gridCol w="727200"/>
                <a:gridCol w="876240"/>
              </a:tblGrid>
              <a:tr h="42840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6 год, 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90880">
                <a:tc>
                  <a:txBody>
                    <a:bodyPr lIns="54000" rIns="54000" tIns="54000" bIns="54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ое пособие на ребенка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1,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3400">
                <a:tc>
                  <a:txBody>
                    <a:bodyPr lIns="54000" rIns="54000" tIns="54000" bIns="54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на содержание ребенка в семье опекуна и приемной семье, а также вознаграждение, причитающееся приемному родителю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0,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1600">
                <a:tc gridSpan="2"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сего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01,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</p:spTree>
  </p:cSld>
  <p:transition advTm="6000"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126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2920" y="2000160"/>
          <a:ext cx="8893080" cy="3224160"/>
        </p:xfrm>
        <a:graphic>
          <a:graphicData uri="http://schemas.openxmlformats.org/drawingml/2006/table">
            <a:tbl>
              <a:tblPr/>
              <a:tblGrid>
                <a:gridCol w="7362720"/>
                <a:gridCol w="757440"/>
                <a:gridCol w="772920"/>
              </a:tblGrid>
              <a:tr h="473400"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2017 год,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377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нсация расходов на оплату жилых помещений, отопления и освещения работникам муниципальных образовательных учрежд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66,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812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пенсий за выслугу лет и доплат к пенсиям муниципальных служащих Золотухинского райо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8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жемесячная денежная выплата ветеранам труда и труженикам ты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5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24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продовольственными товарами по сниженным цена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9,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мер социальной поддержки реабилитированных лиц и лиц, признанных пострадавшими от политических репресс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компенсации части родительской платы за присмотр и уход за детьми, посещающими образовательные организации, реализующие образовательные программы дошкольного образов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8,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48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мер социальной поддержки работников муниципальных учреждений культур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2,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4040">
                <a:tc gridSpan="2"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93,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Муниципальная поддержка национальной экономики в 2017 году – 126 499,2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-246240" y="1643040"/>
          <a:ext cx="923940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6240" y="1643040"/>
                    <a:ext cx="92394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Picture 5" descr="it"/>
          <p:cNvPicPr/>
          <p:nvPr/>
        </p:nvPicPr>
        <p:blipFill>
          <a:blip r:embed="rId3"/>
          <a:stretch/>
        </p:blipFill>
        <p:spPr>
          <a:xfrm>
            <a:off x="7358040" y="4929120"/>
            <a:ext cx="15001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0862w_656x525"/>
          <p:cNvPicPr/>
          <p:nvPr/>
        </p:nvPicPr>
        <p:blipFill>
          <a:blip r:embed="rId4"/>
          <a:stretch/>
        </p:blipFill>
        <p:spPr>
          <a:xfrm>
            <a:off x="928800" y="4286160"/>
            <a:ext cx="1587240" cy="127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518a302f-ee77-866b-ee77-866412c04992"/>
          <p:cNvPicPr/>
          <p:nvPr/>
        </p:nvPicPr>
        <p:blipFill>
          <a:blip r:embed="rId5"/>
          <a:stretch/>
        </p:blipFill>
        <p:spPr>
          <a:xfrm>
            <a:off x="5286240" y="5072040"/>
            <a:ext cx="16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с-х"/>
          <p:cNvPicPr/>
          <p:nvPr/>
        </p:nvPicPr>
        <p:blipFill>
          <a:blip r:embed="rId6"/>
          <a:stretch/>
        </p:blipFill>
        <p:spPr>
          <a:xfrm>
            <a:off x="3071880" y="5072040"/>
            <a:ext cx="1714320" cy="106992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8040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Расходы бюджета Золотухин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в 2017 году на физическую </a:t>
            </a:r>
            <a:br>
              <a:rPr sz="2400"/>
            </a:b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ультуру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и спорт –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193,8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42920" y="1677960"/>
          <a:ext cx="9096480" cy="51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677960"/>
                    <a:ext cx="909648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7" descr="x600_8681"/>
          <p:cNvPicPr/>
          <p:nvPr/>
        </p:nvPicPr>
        <p:blipFill>
          <a:blip r:embed="rId3"/>
          <a:stretch/>
        </p:blipFill>
        <p:spPr>
          <a:xfrm>
            <a:off x="714240" y="4143240"/>
            <a:ext cx="2016360" cy="1344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5596574"/>
          <p:cNvPicPr/>
          <p:nvPr/>
        </p:nvPicPr>
        <p:blipFill>
          <a:blip r:embed="rId4"/>
          <a:stretch/>
        </p:blipFill>
        <p:spPr>
          <a:xfrm>
            <a:off x="4643280" y="4214880"/>
            <a:ext cx="19576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morninggym4_3"/>
          <p:cNvPicPr/>
          <p:nvPr/>
        </p:nvPicPr>
        <p:blipFill>
          <a:blip r:embed="rId5"/>
          <a:stretch/>
        </p:blipFill>
        <p:spPr>
          <a:xfrm>
            <a:off x="4643280" y="2500200"/>
            <a:ext cx="2025720" cy="132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spartakiada"/>
          <p:cNvPicPr/>
          <p:nvPr/>
        </p:nvPicPr>
        <p:blipFill>
          <a:blip r:embed="rId6"/>
          <a:stretch/>
        </p:blipFill>
        <p:spPr>
          <a:xfrm>
            <a:off x="7143840" y="0"/>
            <a:ext cx="2000160" cy="1328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11403_6621"/>
          <p:cNvPicPr/>
          <p:nvPr/>
        </p:nvPicPr>
        <p:blipFill>
          <a:blip r:embed="rId7"/>
          <a:stretch/>
        </p:blipFill>
        <p:spPr>
          <a:xfrm>
            <a:off x="785880" y="2500200"/>
            <a:ext cx="2004840" cy="1335240"/>
          </a:xfrm>
          <a:prstGeom prst="rect">
            <a:avLst/>
          </a:prstGeom>
          <a:ln w="0">
            <a:noFill/>
          </a:ln>
        </p:spPr>
      </p:pic>
    </p:spTree>
  </p:cSld>
  <p:transition advTm="15000"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 бюджета Золотухинского района за 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4200" y="1143000"/>
          <a:ext cx="8286840" cy="5143680"/>
        </p:xfrm>
        <a:graphic>
          <a:graphicData uri="http://schemas.openxmlformats.org/drawingml/2006/table">
            <a:tbl>
              <a:tblPr/>
              <a:tblGrid>
                <a:gridCol w="5416560"/>
                <a:gridCol w="1650960"/>
                <a:gridCol w="1219320"/>
              </a:tblGrid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 го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57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Золотухинского района Курской обла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9999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3600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80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36000" bIns="360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7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519999,3тыс. 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71680" y="1571760"/>
          <a:ext cx="8229600" cy="4641840"/>
        </p:xfrm>
        <a:graphic>
          <a:graphicData uri="http://schemas.openxmlformats.org/drawingml/2006/table">
            <a:tbl>
              <a:tblPr/>
              <a:tblGrid>
                <a:gridCol w="6960960"/>
                <a:gridCol w="126864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1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 поддержка граждан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55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 в 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74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 имуществом Золотухинского района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0,7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сбережение и повышение  энергетической эффективности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   Золотухинского района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оступным и комфортным жильем и коммунальными услугами граждан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4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 Повышение эффективности  развития молодежной политики, совершенствование   системы оздоровления и отдыха детей, развитие  физической культуры и спорта 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витие  муниципальной службы  в Золотухинском районе  Курской 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развитие архивного дела  в  Золотухинском  рай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6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115"/>
          <p:cNvSpPr/>
          <p:nvPr/>
        </p:nvSpPr>
        <p:spPr>
          <a:xfrm>
            <a:off x="578520" y="6381720"/>
            <a:ext cx="795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умерация муниципальных программ  указана в соответствии с присвоенными им кодами для отражения в бюджете Золотухинского район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1000">
    <p:wheel spokes="8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Бюджет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До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поступающие в бюджет денежные средства (налоги юридических и физических лиц, штрафы, административные платежи и сборы, финансовая помощ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Расходы бюджет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выплачиваемые из бюджета денежные средства (социальные выплаты населению, содержание государственных учреждений (образование, здравоохранение и другие), капитальное строительство и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Исполнение бюджета Золотухинского района за 2017 год </a:t>
            </a:r>
            <a:br>
              <a:rPr sz="2300"/>
            </a:b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</a:t>
            </a:r>
            <a:r>
              <a:rPr b="1" lang="en-US" sz="2300" spc="-1" strike="noStrike">
                <a:solidFill>
                  <a:srgbClr val="cc0000"/>
                </a:solidFill>
                <a:latin typeface="Times New Roman"/>
              </a:rPr>
              <a:t> [2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Золотухинского района Курской области – 519999,3тыс.рублей, в том числе по направлени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9640" y="1773360"/>
          <a:ext cx="8229600" cy="3978000"/>
        </p:xfrm>
        <a:graphic>
          <a:graphicData uri="http://schemas.openxmlformats.org/drawingml/2006/table">
            <a:tbl>
              <a:tblPr/>
              <a:tblGrid>
                <a:gridCol w="6635880"/>
                <a:gridCol w="159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 транспортной системы и обеспечение перевозки пассажиров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663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в Золотухинском районе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22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эффективного и ответственного управления муниципальными финансами, муниципальным долгом и повышения устойчивости бюджетов Золотухинского района Курской области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99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развития торговли, малого и среднего предпринимательства     в Золотухинском районе 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хозяйства и регулирование рынков сельскохозяйственной продукции, сырья и продовольствия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155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ие занятости населения и улучшение  условий  и охраны труда в Золотухинском районе Курской облас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ежбюджетные трансферты бюджетам поселений в 2017  году</a:t>
            </a:r>
            <a:br>
              <a:rPr sz="28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в сравнении с 2015 и 2016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844640"/>
          <a:ext cx="8229600" cy="3478320"/>
        </p:xfrm>
        <a:graphic>
          <a:graphicData uri="http://schemas.openxmlformats.org/drawingml/2006/table">
            <a:tbl>
              <a:tblPr/>
              <a:tblGrid>
                <a:gridCol w="3827520"/>
                <a:gridCol w="1511280"/>
                <a:gridCol w="1439640"/>
                <a:gridCol w="14511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e5176"/>
                        </a:gs>
                        <a:gs pos="100000">
                          <a:srgbClr val="85ae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1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ам поселе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68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81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advTm="9000">
    <p:cover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4760" y="631440"/>
            <a:ext cx="83944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Золотухинского района Ку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9320" y="3214440"/>
            <a:ext cx="732168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01720" y="3714840"/>
          <a:ext cx="7270560" cy="1874880"/>
        </p:xfrm>
        <a:graphic>
          <a:graphicData uri="http://schemas.openxmlformats.org/drawingml/2006/table">
            <a:tbl>
              <a:tblPr/>
              <a:tblGrid>
                <a:gridCol w="2424240"/>
                <a:gridCol w="2422440"/>
                <a:gridCol w="2423880"/>
              </a:tblGrid>
              <a:tr h="482400">
                <a:tc gridSpan="3"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4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87520"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69"/>
          <p:cNvSpPr/>
          <p:nvPr/>
        </p:nvSpPr>
        <p:spPr>
          <a:xfrm>
            <a:off x="571680" y="1969920"/>
            <a:ext cx="471456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1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Золотухинским районом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б исполнении бюджета Золотухинского района Курской области за 2017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В. Локтионова – начальник 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В. Рыжкова – заместитель нача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ового управления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финансовым управлением администрации Золотухинского района Ку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размещена на сайте администрация-золотухи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b8e3e6"/>
            </a:gs>
          </a:gsLst>
          <a:lin ang="7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020, Курская область, п.Золтухино, ул. Кирова,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инансовое управление администрации Золотух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у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1)2-14-43 , (47151)2-16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1)2-14-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nyprav-zolotuch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е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официт –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вышение доходов над рас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исполнения бюджета Золотухинского района Курской области за 2017 год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28800" y="2060640"/>
          <a:ext cx="7072200" cy="3821040"/>
        </p:xfrm>
        <a:graphic>
          <a:graphicData uri="http://schemas.openxmlformats.org/drawingml/2006/table">
            <a:tbl>
              <a:tblPr/>
              <a:tblGrid>
                <a:gridCol w="4836960"/>
                <a:gridCol w="2235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30 44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0 579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134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2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d6e0ff"/>
              </a:gs>
              <a:gs pos="100000">
                <a:srgbClr val="3366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H="1">
            <a:off x="5435280" y="2637000"/>
            <a:ext cx="86508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V="1">
            <a:off x="4500720" y="3789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9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7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4160" y="1057320"/>
          <a:ext cx="8361360" cy="534492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613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4 2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 44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9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9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 92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6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 86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 реализуемые на территории РФ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7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4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олженность и перерасчеты по отмененным налогам, сборам и иным обязательным платежам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52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и компенсации затрат государств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9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4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 платежи и сбор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7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57120" y="1071720"/>
          <a:ext cx="8602560" cy="5113080"/>
        </p:xfrm>
        <a:graphic>
          <a:graphicData uri="http://schemas.openxmlformats.org/drawingml/2006/table">
            <a:tbl>
              <a:tblPr/>
              <a:tblGrid>
                <a:gridCol w="1241640"/>
                <a:gridCol w="4049640"/>
                <a:gridCol w="1676160"/>
                <a:gridCol w="1635120"/>
              </a:tblGrid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7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1  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 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 52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 28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 60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оссийской Федерации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0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1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 07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бюджетной системы Российской Федер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84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 27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2 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0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6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" y="326880"/>
            <a:ext cx="887760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Структура доходов бюджета Золотухинского района Курской области </a:t>
            </a:r>
            <a:br>
              <a:rPr sz="1700"/>
            </a:b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за 2017 год по кодам видов доходов        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[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17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1" lang="ru-RU" sz="1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4160" y="1057320"/>
          <a:ext cx="8361360" cy="1871640"/>
        </p:xfrm>
        <a:graphic>
          <a:graphicData uri="http://schemas.openxmlformats.org/drawingml/2006/table">
            <a:tbl>
              <a:tblPr/>
              <a:tblGrid>
                <a:gridCol w="1120680"/>
                <a:gridCol w="4021200"/>
                <a:gridCol w="1630080"/>
                <a:gridCol w="1589400"/>
              </a:tblGrid>
              <a:tr h="27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бюджетной классификаци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усмотрено н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17 го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ов бюджетной системы Российской Федерации от возврата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 2  19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1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75"/>
                        </a:spcBef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1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5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/>
  <dcterms:modified xsi:type="dcterms:W3CDTF">2018-09-26T08:06:03Z</dcterms:modified>
  <cp:revision>435</cp:revision>
  <dc:subject/>
  <dc:title>Слайд 1</dc:title>
</cp:coreProperties>
</file>