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jpeg" ContentType="image/jpeg"/>
  <Override PartName="/ppt/media/image18.jpeg" ContentType="image/jpeg"/>
  <Override PartName="/ppt/media/image17.wmf" ContentType="image/x-wmf"/>
  <Override PartName="/ppt/media/image11.jpeg" ContentType="image/jpeg"/>
  <Override PartName="/ppt/media/image36.jpeg" ContentType="image/jpeg"/>
  <Override PartName="/ppt/media/image12.wmf" ContentType="image/x-wmf"/>
  <Override PartName="/ppt/media/image2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9.wmf" ContentType="image/x-wmf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3.jpeg" ContentType="image/jpeg"/>
  <Override PartName="/ppt/media/image37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7389-2516-4BB9-BB0F-4D0676E0B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2A2C-6F8C-4CA4-AC28-E4A0DABE8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44A-F030-4C17-8550-C8F56244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FA0-B2CC-4856-9C8A-9CA60C3A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A8F-E220-40C4-B97A-C7304CB5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4DF-0D79-4901-A7DB-2123A73B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600-7750-4CB1-ACF5-16EC4584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D2F-3483-4E30-863C-F6CD6FD7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061-C6BA-4712-BD66-D1C094EB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52B-4C5A-4DB9-A021-F293F2D5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41E-ED17-41E9-9211-C92EA1F4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00B1-AB76-49F6-8240-4078516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2B3-9410-44CF-9254-8114FE53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01D-6C1C-4F4F-B4F6-25E75846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4C74-BBD5-4B37-B1B8-E344A7483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ЗОЛОТУХИНСКОГО РАЙОНА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К годовому отчету  об исполнении бюджета Золотухинского района Курской области за 2019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D:\Документы\ОТ МЕНЯ\zolotuhino.jpg"/>
          <p:cNvPicPr/>
          <p:nvPr/>
        </p:nvPicPr>
        <p:blipFill>
          <a:blip r:embed="rId1"/>
          <a:stretch/>
        </p:blipFill>
        <p:spPr>
          <a:xfrm>
            <a:off x="3595680" y="13208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D:\Документы\ОТ МЕНЯ\zolotukhino_rayon_coa_n9441.gif"/>
          <p:cNvPicPr/>
          <p:nvPr/>
        </p:nvPicPr>
        <p:blipFill>
          <a:blip r:embed="rId2"/>
          <a:stretch/>
        </p:blipFill>
        <p:spPr>
          <a:xfrm>
            <a:off x="4071960" y="285840"/>
            <a:ext cx="771480" cy="99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D:\Документы\ОТ МЕНЯ\0_f6eed_8bfb3d9b_M.jpg"/>
          <p:cNvPicPr/>
          <p:nvPr/>
        </p:nvPicPr>
        <p:blipFill>
          <a:blip r:embed="rId3"/>
          <a:stretch/>
        </p:blipFill>
        <p:spPr>
          <a:xfrm>
            <a:off x="6357960" y="4214880"/>
            <a:ext cx="2286000" cy="157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Documents and Settings\User\Рабочий стол\56264550.jpg"/>
          <p:cNvPicPr/>
          <p:nvPr/>
        </p:nvPicPr>
        <p:blipFill>
          <a:blip r:embed="rId4"/>
          <a:stretch/>
        </p:blipFill>
        <p:spPr>
          <a:xfrm>
            <a:off x="285840" y="4286160"/>
            <a:ext cx="242892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лог на доходы физичес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2"/>
          <p:cNvGraphicFramePr/>
          <p:nvPr/>
        </p:nvGraphicFramePr>
        <p:xfrm>
          <a:off x="3276720" y="409680"/>
          <a:ext cx="5000400" cy="389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09680"/>
                    <a:ext cx="50004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17" descr="917895595"/>
          <p:cNvPicPr/>
          <p:nvPr/>
        </p:nvPicPr>
        <p:blipFill>
          <a:blip r:embed="rId3"/>
          <a:stretch/>
        </p:blipFill>
        <p:spPr>
          <a:xfrm>
            <a:off x="0" y="1052640"/>
            <a:ext cx="3095640" cy="2062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549429"/>
          <p:cNvPicPr/>
          <p:nvPr/>
        </p:nvPicPr>
        <p:blipFill>
          <a:blip r:embed="rId4"/>
          <a:stretch/>
        </p:blipFill>
        <p:spPr>
          <a:xfrm>
            <a:off x="6033960" y="4525920"/>
            <a:ext cx="3110040" cy="233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big_3"/>
          <p:cNvPicPr/>
          <p:nvPr/>
        </p:nvPicPr>
        <p:blipFill>
          <a:blip r:embed="rId5"/>
          <a:stretch/>
        </p:blipFill>
        <p:spPr>
          <a:xfrm>
            <a:off x="1332000" y="4292640"/>
            <a:ext cx="3357360" cy="2014560"/>
          </a:xfrm>
          <a:prstGeom prst="rect">
            <a:avLst/>
          </a:prstGeom>
          <a:ln w="0">
            <a:noFill/>
          </a:ln>
        </p:spPr>
      </p:pic>
    </p:spTree>
  </p:cSld>
  <p:transition advTm="6000">
    <p:split dir="in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Налоги на совокупный 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7"/>
          <p:cNvGraphicFramePr/>
          <p:nvPr/>
        </p:nvGraphicFramePr>
        <p:xfrm>
          <a:off x="-257040" y="1486080"/>
          <a:ext cx="4962240" cy="38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7040" y="1486080"/>
                    <a:ext cx="496224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9" descr="1326962390_519a2ebdbd25743ea1a5baefebd2a85d"/>
          <p:cNvPicPr/>
          <p:nvPr/>
        </p:nvPicPr>
        <p:blipFill>
          <a:blip r:embed="rId3"/>
          <a:stretch/>
        </p:blipFill>
        <p:spPr>
          <a:xfrm>
            <a:off x="5364000" y="0"/>
            <a:ext cx="2811600" cy="321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8766539525"/>
          <p:cNvPicPr/>
          <p:nvPr/>
        </p:nvPicPr>
        <p:blipFill>
          <a:blip r:embed="rId4"/>
          <a:stretch/>
        </p:blipFill>
        <p:spPr>
          <a:xfrm>
            <a:off x="5435640" y="3643200"/>
            <a:ext cx="2820960" cy="29718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езвозмездные поступления из областного бюджета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а 2019 год (в сравнении с 2017 и 2018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79200" y="982800"/>
          <a:ext cx="9164880" cy="51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982800"/>
                    <a:ext cx="9164880" cy="51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9" descr="81a709653a20b3944532620b1242f338"/>
          <p:cNvPicPr/>
          <p:nvPr/>
        </p:nvPicPr>
        <p:blipFill>
          <a:blip r:embed="rId3"/>
          <a:stretch/>
        </p:blipFill>
        <p:spPr>
          <a:xfrm>
            <a:off x="0" y="198900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p:transition advTm="9000">
    <p:pull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Золотухинского района Курской области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за 2019 год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(в сравнении с 2017 и 2018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771480"/>
          <a:ext cx="8785440" cy="5997600"/>
        </p:xfrm>
        <a:graphic>
          <a:graphicData uri="http://schemas.openxmlformats.org/drawingml/2006/table">
            <a:tbl>
              <a:tblPr/>
              <a:tblGrid>
                <a:gridCol w="647640"/>
                <a:gridCol w="3097440"/>
                <a:gridCol w="1727280"/>
                <a:gridCol w="1728720"/>
                <a:gridCol w="1584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 579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 493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1 749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133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275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446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22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43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42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 499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 652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 044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885,4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757,7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193,6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 292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 61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6 68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956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103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434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1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214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66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636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81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1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91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1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4160" y="1057320"/>
          <a:ext cx="7939080" cy="5119560"/>
        </p:xfrm>
        <a:graphic>
          <a:graphicData uri="http://schemas.openxmlformats.org/drawingml/2006/table">
            <a:tbl>
              <a:tblPr/>
              <a:tblGrid>
                <a:gridCol w="857160"/>
                <a:gridCol w="4025880"/>
                <a:gridCol w="1547640"/>
                <a:gridCol w="1508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1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9 789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1 749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7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588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446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22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22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1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5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273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758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55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24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проведения выборов и референдум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495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955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2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0880" y="1074600"/>
          <a:ext cx="7697880" cy="4545000"/>
        </p:xfrm>
        <a:graphic>
          <a:graphicData uri="http://schemas.openxmlformats.org/drawingml/2006/table">
            <a:tbl>
              <a:tblPr/>
              <a:tblGrid>
                <a:gridCol w="789120"/>
                <a:gridCol w="3590640"/>
                <a:gridCol w="1629000"/>
                <a:gridCol w="16891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36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42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9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36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42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 906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 044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 325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 921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81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22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606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193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394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991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храны окружающей сре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50880" y="1000080"/>
          <a:ext cx="7778880" cy="5873760"/>
        </p:xfrm>
        <a:graphic>
          <a:graphicData uri="http://schemas.openxmlformats.org/drawingml/2006/table">
            <a:tbl>
              <a:tblPr/>
              <a:tblGrid>
                <a:gridCol w="838080"/>
                <a:gridCol w="3357720"/>
                <a:gridCol w="1855800"/>
                <a:gridCol w="1727280"/>
              </a:tblGrid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6 969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6 680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226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 178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 73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 805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501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565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и и оздоровление дет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77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30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434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99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216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434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252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147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63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86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2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1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-эпидемиологическое благополуч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2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1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026,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636,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11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423,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285,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929,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756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9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44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41,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71480" y="1074600"/>
          <a:ext cx="7094520" cy="2968920"/>
        </p:xfrm>
        <a:graphic>
          <a:graphicData uri="http://schemas.openxmlformats.org/drawingml/2006/table">
            <a:tbl>
              <a:tblPr/>
              <a:tblGrid>
                <a:gridCol w="789120"/>
                <a:gridCol w="3289320"/>
                <a:gridCol w="1533240"/>
                <a:gridCol w="14828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9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,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9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,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5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бюджетной системы Российской Федерац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91,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91,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705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субъектов Российской Федерации и муниципальных образовани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91,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91,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Расходы бюджета Золотухинского района на социально-культурную сф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6"/>
          <p:cNvGrpSpPr/>
          <p:nvPr/>
        </p:nvGrpSpPr>
        <p:grpSpPr>
          <a:xfrm>
            <a:off x="4140360" y="4457880"/>
            <a:ext cx="2514600" cy="2400120"/>
            <a:chOff x="4140360" y="4457880"/>
            <a:chExt cx="2514600" cy="2400120"/>
          </a:xfrm>
        </p:grpSpPr>
        <p:sp>
          <p:nvSpPr>
            <p:cNvPr id="104" name="Rectangle 27"/>
            <p:cNvSpPr/>
            <p:nvPr/>
          </p:nvSpPr>
          <p:spPr>
            <a:xfrm>
              <a:off x="4140360" y="4457880"/>
              <a:ext cx="2514600" cy="24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80"/>
                  </a:solidFill>
                  <a:latin typeface="Times New Roman"/>
                </a:rPr>
                <a:t>2019 год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8"/>
            <p:cNvGrpSpPr/>
            <p:nvPr/>
          </p:nvGrpSpPr>
          <p:grpSpPr>
            <a:xfrm>
              <a:off x="4597560" y="5143320"/>
              <a:ext cx="1600200" cy="1600200"/>
              <a:chOff x="4597560" y="5143320"/>
              <a:chExt cx="1600200" cy="1600200"/>
            </a:xfrm>
          </p:grpSpPr>
          <p:sp>
            <p:nvSpPr>
              <p:cNvPr id="106" name="Oval 29"/>
              <p:cNvSpPr/>
              <p:nvPr/>
            </p:nvSpPr>
            <p:spPr>
              <a:xfrm>
                <a:off x="4597560" y="5143320"/>
                <a:ext cx="1600200" cy="160020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76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Oval 30"/>
              <p:cNvSpPr/>
              <p:nvPr/>
            </p:nvSpPr>
            <p:spPr>
              <a:xfrm>
                <a:off x="5054760" y="5486040"/>
                <a:ext cx="1119600" cy="111924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63,7 %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Rectangle 53"/>
          <p:cNvSpPr/>
          <p:nvPr/>
        </p:nvSpPr>
        <p:spPr>
          <a:xfrm>
            <a:off x="2050920" y="4221000"/>
            <a:ext cx="25146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2018 год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55"/>
          <p:cNvSpPr/>
          <p:nvPr/>
        </p:nvSpPr>
        <p:spPr>
          <a:xfrm>
            <a:off x="2508120" y="4906800"/>
            <a:ext cx="1600200" cy="159732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1" descr="50a33244-e6b8-ed44-e6b8-ed4bf517dca8"/>
          <p:cNvPicPr/>
          <p:nvPr/>
        </p:nvPicPr>
        <p:blipFill>
          <a:blip r:embed="rId1"/>
          <a:stretch/>
        </p:blipFill>
        <p:spPr>
          <a:xfrm>
            <a:off x="6340320" y="4995720"/>
            <a:ext cx="2803680" cy="186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4" descr="190af5732bd3772060f9962e8fb6fff1"/>
          <p:cNvPicPr/>
          <p:nvPr/>
        </p:nvPicPr>
        <p:blipFill>
          <a:blip r:embed="rId2"/>
          <a:stretch/>
        </p:blipFill>
        <p:spPr>
          <a:xfrm>
            <a:off x="6012000" y="3141720"/>
            <a:ext cx="2811240" cy="1666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5" descr="krkpy"/>
          <p:cNvPicPr/>
          <p:nvPr/>
        </p:nvPicPr>
        <p:blipFill>
          <a:blip r:embed="rId3"/>
          <a:stretch/>
        </p:blipFill>
        <p:spPr>
          <a:xfrm>
            <a:off x="5724360" y="1125360"/>
            <a:ext cx="2786400" cy="1854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8"/>
          <p:cNvSpPr/>
          <p:nvPr/>
        </p:nvSpPr>
        <p:spPr>
          <a:xfrm>
            <a:off x="-6120" y="3572640"/>
            <a:ext cx="59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660066"/>
                </a:solidFill>
                <a:uFillTx/>
                <a:latin typeface="Times New Roman"/>
              </a:rPr>
              <a:t>Доля расходов на социально-культурную сферу в общих расходах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0"/>
          <p:cNvSpPr/>
          <p:nvPr/>
        </p:nvSpPr>
        <p:spPr>
          <a:xfrm>
            <a:off x="0" y="1085400"/>
            <a:ext cx="5732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Расходы на социально-культурную сферу Золотухинского района Курской области включают в себя следующие направления расходования средств районного бюджета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образование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социальная политика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культура, кинематография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физическая культура и спорт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0" y="3860640"/>
            <a:ext cx="2514600" cy="2400480"/>
            <a:chOff x="0" y="3860640"/>
            <a:chExt cx="2514600" cy="2400480"/>
          </a:xfrm>
        </p:grpSpPr>
        <p:grpSp>
          <p:nvGrpSpPr>
            <p:cNvPr id="116" name="Group 35"/>
            <p:cNvGrpSpPr/>
            <p:nvPr/>
          </p:nvGrpSpPr>
          <p:grpSpPr>
            <a:xfrm>
              <a:off x="0" y="3860640"/>
              <a:ext cx="2514600" cy="2400480"/>
              <a:chOff x="0" y="3860640"/>
              <a:chExt cx="2514600" cy="2400480"/>
            </a:xfrm>
          </p:grpSpPr>
          <p:sp>
            <p:nvSpPr>
              <p:cNvPr id="117" name="Rectangle 36"/>
              <p:cNvSpPr/>
              <p:nvPr/>
            </p:nvSpPr>
            <p:spPr>
              <a:xfrm>
                <a:off x="0" y="3860640"/>
                <a:ext cx="2514600" cy="24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800080"/>
                    </a:solidFill>
                    <a:latin typeface="Times New Roman"/>
                  </a:rPr>
                  <a:t>2017 год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37"/>
              <p:cNvSpPr/>
              <p:nvPr/>
            </p:nvSpPr>
            <p:spPr>
              <a:xfrm>
                <a:off x="457200" y="4546440"/>
                <a:ext cx="1600200" cy="16005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76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71"/>
            <p:cNvGrpSpPr/>
            <p:nvPr/>
          </p:nvGrpSpPr>
          <p:grpSpPr>
            <a:xfrm>
              <a:off x="539640" y="4437000"/>
              <a:ext cx="1789200" cy="1708200"/>
              <a:chOff x="539640" y="4437000"/>
              <a:chExt cx="1789200" cy="1708200"/>
            </a:xfrm>
          </p:grpSpPr>
          <p:sp>
            <p:nvSpPr>
              <p:cNvPr id="120" name="Rectangle 72"/>
              <p:cNvSpPr/>
              <p:nvPr/>
            </p:nvSpPr>
            <p:spPr>
              <a:xfrm>
                <a:off x="539640" y="4437000"/>
                <a:ext cx="1789200" cy="17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73"/>
              <p:cNvSpPr/>
              <p:nvPr/>
            </p:nvSpPr>
            <p:spPr>
              <a:xfrm>
                <a:off x="864720" y="4924800"/>
                <a:ext cx="1138680" cy="113904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66,9 %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Oval 75"/>
          <p:cNvSpPr/>
          <p:nvPr/>
        </p:nvSpPr>
        <p:spPr>
          <a:xfrm>
            <a:off x="2916360" y="5229360"/>
            <a:ext cx="1150920" cy="11491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0,5 %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12280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Расходы бюджета Золотухинского района в 2019 году на образование –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346 680,1 тыс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8"/>
          <p:cNvGraphicFramePr/>
          <p:nvPr/>
        </p:nvGraphicFramePr>
        <p:xfrm>
          <a:off x="146160" y="1857240"/>
          <a:ext cx="742320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857240"/>
                    <a:ext cx="74232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12" descr="197"/>
          <p:cNvPicPr/>
          <p:nvPr/>
        </p:nvPicPr>
        <p:blipFill>
          <a:blip r:embed="rId3"/>
          <a:stretch/>
        </p:blipFill>
        <p:spPr>
          <a:xfrm>
            <a:off x="6227640" y="5213520"/>
            <a:ext cx="2195640" cy="164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bibblio"/>
          <p:cNvPicPr/>
          <p:nvPr/>
        </p:nvPicPr>
        <p:blipFill>
          <a:blip r:embed="rId4"/>
          <a:stretch/>
        </p:blipFill>
        <p:spPr>
          <a:xfrm>
            <a:off x="0" y="1268280"/>
            <a:ext cx="2664000" cy="1446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7e2ff2a94d93e2fff55457dc8926d027_M1"/>
          <p:cNvPicPr/>
          <p:nvPr/>
        </p:nvPicPr>
        <p:blipFill>
          <a:blip r:embed="rId5"/>
          <a:stretch/>
        </p:blipFill>
        <p:spPr>
          <a:xfrm>
            <a:off x="6156360" y="0"/>
            <a:ext cx="2289240" cy="2428920"/>
          </a:xfrm>
          <a:prstGeom prst="rect">
            <a:avLst/>
          </a:prstGeom>
          <a:ln w="0">
            <a:noFill/>
          </a:ln>
        </p:spPr>
      </p:pic>
    </p:spTree>
  </p:cSld>
  <p:transition advTm="17000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02960"/>
            <a:ext cx="8291520" cy="102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Расходы бюджета Золотухинского района в 2019 году 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на культуру, кинематографию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– 31 434,3 тыс. руб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D:\Документы\ОТ МЕНЯ\ДК.jpg"/>
          <p:cNvPicPr/>
          <p:nvPr/>
        </p:nvPicPr>
        <p:blipFill>
          <a:blip r:embed="rId1"/>
          <a:stretch/>
        </p:blipFill>
        <p:spPr>
          <a:xfrm>
            <a:off x="428760" y="1428840"/>
            <a:ext cx="3357360" cy="307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4"/>
          <p:cNvGraphicFramePr/>
          <p:nvPr/>
        </p:nvGraphicFramePr>
        <p:xfrm>
          <a:off x="247680" y="1058760"/>
          <a:ext cx="9191520" cy="480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680" y="1058760"/>
                    <a:ext cx="919152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асходы бюджета Золотухинского района в 2019 году на социальную политику – 42 636,8 тыс. руб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-25560" y="1028880"/>
          <a:ext cx="9539280" cy="53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028880"/>
                    <a:ext cx="953928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Picture 5" descr="1JrYlD9Gn3o"/>
          <p:cNvPicPr/>
          <p:nvPr/>
        </p:nvPicPr>
        <p:blipFill>
          <a:blip r:embed="rId3"/>
          <a:stretch/>
        </p:blipFill>
        <p:spPr>
          <a:xfrm>
            <a:off x="0" y="981000"/>
            <a:ext cx="1673280" cy="167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образов-е"/>
          <p:cNvPicPr/>
          <p:nvPr/>
        </p:nvPicPr>
        <p:blipFill>
          <a:blip r:embed="rId4"/>
          <a:stretch/>
        </p:blipFill>
        <p:spPr>
          <a:xfrm>
            <a:off x="3429000" y="4000680"/>
            <a:ext cx="1681200" cy="156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000341771_1"/>
          <p:cNvPicPr/>
          <p:nvPr/>
        </p:nvPicPr>
        <p:blipFill>
          <a:blip r:embed="rId5"/>
          <a:stretch/>
        </p:blipFill>
        <p:spPr>
          <a:xfrm>
            <a:off x="1042920" y="2708280"/>
            <a:ext cx="2289240" cy="1550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JrYlD9Gn3o"/>
          <p:cNvPicPr/>
          <p:nvPr/>
        </p:nvPicPr>
        <p:blipFill>
          <a:blip r:embed="rId6"/>
          <a:stretch/>
        </p:blipFill>
        <p:spPr>
          <a:xfrm>
            <a:off x="0" y="928800"/>
            <a:ext cx="1673280" cy="167328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униципальная поддержка национальной экономики в 2019 году – 174 044,0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-246240" y="1647720"/>
          <a:ext cx="9340920" cy="481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6240" y="1647720"/>
                    <a:ext cx="93409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5" descr="it"/>
          <p:cNvPicPr/>
          <p:nvPr/>
        </p:nvPicPr>
        <p:blipFill>
          <a:blip r:embed="rId3"/>
          <a:stretch/>
        </p:blipFill>
        <p:spPr>
          <a:xfrm>
            <a:off x="7358040" y="492912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0862w_656x525"/>
          <p:cNvPicPr/>
          <p:nvPr/>
        </p:nvPicPr>
        <p:blipFill>
          <a:blip r:embed="rId4"/>
          <a:stretch/>
        </p:blipFill>
        <p:spPr>
          <a:xfrm>
            <a:off x="928800" y="4286160"/>
            <a:ext cx="1587240" cy="127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518a302f-ee77-866b-ee77-866412c04992"/>
          <p:cNvPicPr/>
          <p:nvPr/>
        </p:nvPicPr>
        <p:blipFill>
          <a:blip r:embed="rId5"/>
          <a:stretch/>
        </p:blipFill>
        <p:spPr>
          <a:xfrm>
            <a:off x="5286240" y="5072040"/>
            <a:ext cx="1662120" cy="107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Users\1\Desktop\Мои рисунки\i.jpg"/>
          <p:cNvPicPr/>
          <p:nvPr/>
        </p:nvPicPr>
        <p:blipFill>
          <a:blip r:embed="rId6"/>
          <a:stretch/>
        </p:blipFill>
        <p:spPr>
          <a:xfrm>
            <a:off x="2700360" y="4933800"/>
            <a:ext cx="2087640" cy="130356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8040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Расходы бюджета Золотухинского района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в 2019 году на физическую культуру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 спорт – 198,7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52280" y="1676520"/>
          <a:ext cx="9096480" cy="51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90964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Picture 7" descr="x600_8681"/>
          <p:cNvPicPr/>
          <p:nvPr/>
        </p:nvPicPr>
        <p:blipFill>
          <a:blip r:embed="rId3"/>
          <a:stretch/>
        </p:blipFill>
        <p:spPr>
          <a:xfrm>
            <a:off x="714240" y="4143240"/>
            <a:ext cx="2016360" cy="134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5596574"/>
          <p:cNvPicPr/>
          <p:nvPr/>
        </p:nvPicPr>
        <p:blipFill>
          <a:blip r:embed="rId4"/>
          <a:stretch/>
        </p:blipFill>
        <p:spPr>
          <a:xfrm>
            <a:off x="4643280" y="4214880"/>
            <a:ext cx="1957680" cy="130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morninggym4_3"/>
          <p:cNvPicPr/>
          <p:nvPr/>
        </p:nvPicPr>
        <p:blipFill>
          <a:blip r:embed="rId5"/>
          <a:stretch/>
        </p:blipFill>
        <p:spPr>
          <a:xfrm>
            <a:off x="4643280" y="2500200"/>
            <a:ext cx="2025720" cy="1325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spartakiada"/>
          <p:cNvPicPr/>
          <p:nvPr/>
        </p:nvPicPr>
        <p:blipFill>
          <a:blip r:embed="rId6"/>
          <a:stretch/>
        </p:blipFill>
        <p:spPr>
          <a:xfrm>
            <a:off x="7143840" y="0"/>
            <a:ext cx="2000160" cy="1328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11403_6621"/>
          <p:cNvPicPr/>
          <p:nvPr/>
        </p:nvPicPr>
        <p:blipFill>
          <a:blip r:embed="rId7"/>
          <a:stretch/>
        </p:blipFill>
        <p:spPr>
          <a:xfrm>
            <a:off x="785880" y="2500200"/>
            <a:ext cx="2004840" cy="133524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 бюджета Золотухинского района за 201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4200" y="1143000"/>
          <a:ext cx="8286840" cy="5143680"/>
        </p:xfrm>
        <a:graphic>
          <a:graphicData uri="http://schemas.openxmlformats.org/drawingml/2006/table">
            <a:tbl>
              <a:tblPr/>
              <a:tblGrid>
                <a:gridCol w="5416560"/>
                <a:gridCol w="1650960"/>
                <a:gridCol w="1219320"/>
              </a:tblGrid>
              <a:tr h="635040">
                <a:tc>
                  <a:txBody>
                    <a:bodyPr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1 749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Золотухинского района Курской обла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 858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89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Исполнение бюджета Золотухинского района за 2019 год </a:t>
            </a:r>
            <a:br>
              <a:rPr sz="2300"/>
            </a:b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1" lang="en-US" sz="23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Золотухинского района Курской области – 636 858,5 тыс. рублей, в том числе по направлени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71680" y="1571760"/>
          <a:ext cx="8229600" cy="4641840"/>
        </p:xfrm>
        <a:graphic>
          <a:graphicData uri="http://schemas.openxmlformats.org/drawingml/2006/table">
            <a:tbl>
              <a:tblPr/>
              <a:tblGrid>
                <a:gridCol w="6960960"/>
                <a:gridCol w="126864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ультуры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723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 поддержка граждан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143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образования в 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 686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муниципальным имуществом Золотухинского района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2,9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сбережение и повышение  энергетической эффективности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окружающей среды   Золотухинского района 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оступным и комфортным жильем и коммунальными услугами граждан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54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 Повышение эффективности  развития молодежной политики, совершенствование   системы оздоровления и отдыха детей, развитие  физической культуры и спорта 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29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Развитие  муниципальной службы  в Золотухинском районе  Курской 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и развитие архивного дела  в  Золотухинском  рай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115"/>
          <p:cNvSpPr/>
          <p:nvPr/>
        </p:nvSpPr>
        <p:spPr>
          <a:xfrm>
            <a:off x="578520" y="6381720"/>
            <a:ext cx="795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* Нумерация муниципальных программ  указана в соответствии с присвоенными им кодами для отражения в бюджете Золотухинского район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1000">
    <p:wheel spokes="8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Исполнение бюджета Золотухинского района за 2019</a:t>
            </a:r>
            <a:br>
              <a:rPr sz="2300"/>
            </a:b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 год в разрезе муниципальных программ </a:t>
            </a:r>
            <a:r>
              <a:rPr b="1" lang="en-US" sz="2300" spc="-1" strike="noStrike">
                <a:solidFill>
                  <a:srgbClr val="cc0000"/>
                </a:solidFill>
                <a:latin typeface="Times New Roman"/>
              </a:rPr>
              <a:t> [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Золотухинского района Курской области – 524 502,0тыс.рублей, в том числе по направлени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773360"/>
          <a:ext cx="8229600" cy="3978000"/>
        </p:xfrm>
        <a:graphic>
          <a:graphicData uri="http://schemas.openxmlformats.org/drawingml/2006/table">
            <a:tbl>
              <a:tblPr/>
              <a:tblGrid>
                <a:gridCol w="6635880"/>
                <a:gridCol w="159372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 транспортной системы и обеспечение перевозки пассажиров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818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 правонарушений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9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417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эффективного и ответственного управления муниципальными финансами, муниципальным долгом и повышения устойчивости бюджетов Золотухинского района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008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развития торговли, малого и среднего предпринимательства     в Золотухинском районе 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сельского хозяйства и регулирование рынков сельскохозяйственной продукции, сырья и продовольствия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 305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ие занятости населения и улучшение  условий  и охраны труда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6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Межбюджетные трансферты бюджетам поселений в 2019  году</a:t>
            </a:r>
            <a:br>
              <a:rPr sz="28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(в сравнении с 2017 и 2018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557360"/>
          <a:ext cx="8229600" cy="4976640"/>
        </p:xfrm>
        <a:graphic>
          <a:graphicData uri="http://schemas.openxmlformats.org/drawingml/2006/table">
            <a:tbl>
              <a:tblPr/>
              <a:tblGrid>
                <a:gridCol w="5254560"/>
                <a:gridCol w="936720"/>
                <a:gridCol w="1008000"/>
                <a:gridCol w="10303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5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43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35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6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бюджетам поселе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81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17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91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передаваемые бюджетам сельских поселений из бюджетов муниципальных районов на осуществление части полномочий по решению вопросов местного значения в соответствии с заключенными соглашениям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13,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26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644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advTm="9000">
    <p:cover dir="r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74760" y="631440"/>
            <a:ext cx="83944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Золотухинского района 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ject 4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9320" y="3214440"/>
            <a:ext cx="7321680" cy="11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01720" y="3714840"/>
          <a:ext cx="7270560" cy="1874880"/>
        </p:xfrm>
        <a:graphic>
          <a:graphicData uri="http://schemas.openxmlformats.org/drawingml/2006/table">
            <a:tbl>
              <a:tblPr/>
              <a:tblGrid>
                <a:gridCol w="2424240"/>
                <a:gridCol w="2422440"/>
                <a:gridCol w="2423880"/>
              </a:tblGrid>
              <a:tr h="482400">
                <a:tc gridSpan="3"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4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8752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0" name="Text Box 69"/>
          <p:cNvSpPr/>
          <p:nvPr/>
        </p:nvSpPr>
        <p:spPr>
          <a:xfrm>
            <a:off x="571680" y="1969920"/>
            <a:ext cx="471456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1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Золотухинским районом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б исполнении бюджета Золотухинского района Курской области за 2019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В. Локтионова – начальник финансового управления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В. Рыжкова – заместитель нача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ового управления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финансовым управлением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размещена на сайте администрация-золотухи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Бюджет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Доходы бюджет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поступающие в бюджет денежные средства (налоги юридических и физических лиц, штрафы, административные платежи и сборы, финансовая помощ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Расходы бюджет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выплачиваемые из бюджета денежные средства (социальные выплаты населению, содержание государственных учреждений (образование, здравоохранение и другие), капитальное строительство и друг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b8e3e6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020, Курская область, п.Золтухино, ул. Кирова,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инансовое управление администрации Золотухи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1)2-14-43 , (47151)2-16-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1)2-14-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nyprav-zolotuch@mail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ефицит –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вышение расходов над до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официт –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вышение доходов над рас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исполнения бюджета Золотухинского района Курской области за 2019 год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28800" y="2060640"/>
          <a:ext cx="7072200" cy="3821040"/>
        </p:xfrm>
        <a:graphic>
          <a:graphicData uri="http://schemas.openxmlformats.org/drawingml/2006/table">
            <a:tbl>
              <a:tblPr/>
              <a:tblGrid>
                <a:gridCol w="4836960"/>
                <a:gridCol w="22352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74 398,8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61 749,5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 649,2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2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d6e0ff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H="1">
            <a:off x="5435280" y="2637000"/>
            <a:ext cx="865080" cy="2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 flipV="1">
            <a:off x="4500720" y="3789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9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19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1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4160" y="1057320"/>
          <a:ext cx="8361360" cy="5344920"/>
        </p:xfrm>
        <a:graphic>
          <a:graphicData uri="http://schemas.openxmlformats.org/drawingml/2006/table">
            <a:tbl>
              <a:tblPr/>
              <a:tblGrid>
                <a:gridCol w="1120680"/>
                <a:gridCol w="4021200"/>
                <a:gridCol w="1630080"/>
                <a:gridCol w="1589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1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7 668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4 398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7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 9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 387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прибыль, дохо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 832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 371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товары (работы, услуги) реализуемые на территории РФ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063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09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82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964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13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73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олженность и перерасчеты по отмененным налогам, сборам и иным обязательным платежам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271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50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ежи при пользовании природными ресурсам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9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и компенсации затрат государств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153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205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703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163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 платежи и сборы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19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57120" y="1071720"/>
          <a:ext cx="8602560" cy="5113080"/>
        </p:xfrm>
        <a:graphic>
          <a:graphicData uri="http://schemas.openxmlformats.org/drawingml/2006/table">
            <a:tbl>
              <a:tblPr/>
              <a:tblGrid>
                <a:gridCol w="1241640"/>
                <a:gridCol w="4049640"/>
                <a:gridCol w="1676160"/>
                <a:gridCol w="1635120"/>
              </a:tblGrid>
              <a:tr h="35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26,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92,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 785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 011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 от других бюджетов бюджетной системы Российской Федер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1 574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 77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бюджетной системы Российской Федерации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236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236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бюджетной системы Российской Федерации (межбюджетные субсидии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 157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 560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бюджетной системы Российской Федер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3 151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 950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19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4160" y="1057320"/>
          <a:ext cx="8361360" cy="1871640"/>
        </p:xfrm>
        <a:graphic>
          <a:graphicData uri="http://schemas.openxmlformats.org/drawingml/2006/table">
            <a:tbl>
              <a:tblPr/>
              <a:tblGrid>
                <a:gridCol w="1120680"/>
                <a:gridCol w="4021200"/>
                <a:gridCol w="1630080"/>
                <a:gridCol w="15894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9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6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1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бюджетов бюджетной системы Российской Федерации от возврата остатков субсидий, субвенций и иных межбюджетных трансфертов, имеющих целевое назначение, прошлых лет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19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266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266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/>
  <dcterms:modified xsi:type="dcterms:W3CDTF">2021-03-03T10:18:43Z</dcterms:modified>
  <cp:revision>435</cp:revision>
  <dc:subject/>
  <dc:title>Слайд 1</dc:title>
</cp:coreProperties>
</file>