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jpeg" ContentType="image/jpeg"/>
  <Override PartName="/ppt/media/image22.wmf" ContentType="image/x-wmf"/>
  <Override PartName="/ppt/media/image20.jpeg" ContentType="image/jpeg"/>
  <Override PartName="/ppt/media/image21.jpeg" ContentType="image/jpeg"/>
  <Override PartName="/ppt/media/image32.wmf" ContentType="image/x-wmf"/>
  <Override PartName="/ppt/media/image19.jpeg" ContentType="image/jpeg"/>
  <Override PartName="/ppt/media/image18.jpeg" ContentType="image/jpeg"/>
  <Override PartName="/ppt/media/image17.wmf" ContentType="image/x-wmf"/>
  <Override PartName="/ppt/media/image11.jpeg" ContentType="image/jpeg"/>
  <Override PartName="/ppt/media/image36.jpeg" ContentType="image/jpeg"/>
  <Override PartName="/ppt/media/image12.wmf" ContentType="image/x-wmf"/>
  <Override PartName="/ppt/media/image29.jpeg" ContentType="image/jpeg"/>
  <Override PartName="/ppt/media/image38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9.wmf" ContentType="image/x-wmf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7.jpeg" ContentType="image/jpeg"/>
  <Override PartName="/ppt/media/image23.wmf" ContentType="image/x-wmf"/>
  <Override PartName="/ppt/media/image28.jpeg" ContentType="image/jpeg"/>
  <Override PartName="/ppt/media/image3.jpeg" ContentType="image/jpeg"/>
  <Override PartName="/ppt/media/image37.jpeg" ContentType="image/jpeg"/>
  <Override PartName="/ppt/media/image35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5.wmf" ContentType="image/x-wmf"/>
  <Override PartName="/ppt/media/image16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52ABE-CF3B-4EE7-8177-4EED14E2D9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9F5AE-C08A-4098-9ED0-1E08855B32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BDC8E-26D2-445D-A827-D2505E338A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29C6-DD01-48B0-95F4-801D9D35F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65CE-1564-4306-A41D-49D6F3B58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54AD-D32F-4F10-B4EF-304635D7A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F13E-FF16-46C7-A282-AF8536DF8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455A-DFDC-4B3E-901F-81F63126D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4247-023C-4EAD-81DA-A05C5CE8C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5299-82BD-446D-8608-F02C36557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D429-DBB5-498B-BDEC-9784E0D98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CFE4-6D5A-492A-889C-DAEECAB21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6F72-2116-4F23-8462-9DC0F935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7A5C-2217-4645-86BE-DD0C5C86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F4B0-3F28-4F1E-883B-C59A17A5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2C22B-DC0F-415F-8A32-CB70F594E4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2.wmf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jpe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e0e3"/>
            </a:gs>
            <a:gs pos="50000">
              <a:srgbClr val="ccff99"/>
            </a:gs>
            <a:gs pos="100000">
              <a:srgbClr val="bbe0e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274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БЮДЖЕТ ДЛЯ ГРАЖДАН ЗОЛОТУХИНСКОГО РАЙОНА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КУР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5280" y="6021360"/>
            <a:ext cx="8353440" cy="6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ff"/>
                </a:solidFill>
                <a:latin typeface="Times New Roman"/>
              </a:rPr>
              <a:t>К годовому отчету  об исполнении бюджета Золотухинского района Курской области за 2020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1" descr="D:\Документы\ОТ МЕНЯ\zolotuhino.jpg"/>
          <p:cNvPicPr/>
          <p:nvPr/>
        </p:nvPicPr>
        <p:blipFill>
          <a:blip r:embed="rId1"/>
          <a:stretch/>
        </p:blipFill>
        <p:spPr>
          <a:xfrm>
            <a:off x="3595680" y="132084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D:\Документы\ОТ МЕНЯ\zolotukhino_rayon_coa_n9441.gif"/>
          <p:cNvPicPr/>
          <p:nvPr/>
        </p:nvPicPr>
        <p:blipFill>
          <a:blip r:embed="rId2"/>
          <a:stretch/>
        </p:blipFill>
        <p:spPr>
          <a:xfrm>
            <a:off x="4071960" y="285840"/>
            <a:ext cx="771480" cy="993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D:\Документы\ОТ МЕНЯ\0_f6eed_8bfb3d9b_M.jpg"/>
          <p:cNvPicPr/>
          <p:nvPr/>
        </p:nvPicPr>
        <p:blipFill>
          <a:blip r:embed="rId3"/>
          <a:stretch/>
        </p:blipFill>
        <p:spPr>
          <a:xfrm>
            <a:off x="6357960" y="4214880"/>
            <a:ext cx="2286000" cy="1577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C:\Documents and Settings\User\Рабочий стол\56264550.jpg"/>
          <p:cNvPicPr/>
          <p:nvPr/>
        </p:nvPicPr>
        <p:blipFill>
          <a:blip r:embed="rId4"/>
          <a:stretch/>
        </p:blipFill>
        <p:spPr>
          <a:xfrm>
            <a:off x="285840" y="4286160"/>
            <a:ext cx="2428920" cy="15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Налог на доходы физических ли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Object 12"/>
          <p:cNvGraphicFramePr/>
          <p:nvPr/>
        </p:nvGraphicFramePr>
        <p:xfrm>
          <a:off x="3276720" y="409680"/>
          <a:ext cx="5000400" cy="3895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409680"/>
                    <a:ext cx="5000400" cy="38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" name="Picture 17" descr="917895595"/>
          <p:cNvPicPr/>
          <p:nvPr/>
        </p:nvPicPr>
        <p:blipFill>
          <a:blip r:embed="rId3"/>
          <a:stretch/>
        </p:blipFill>
        <p:spPr>
          <a:xfrm>
            <a:off x="0" y="1052640"/>
            <a:ext cx="3095640" cy="2062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9" descr="549429"/>
          <p:cNvPicPr/>
          <p:nvPr/>
        </p:nvPicPr>
        <p:blipFill>
          <a:blip r:embed="rId4"/>
          <a:stretch/>
        </p:blipFill>
        <p:spPr>
          <a:xfrm>
            <a:off x="6033960" y="4525920"/>
            <a:ext cx="3110040" cy="2332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big_3"/>
          <p:cNvPicPr/>
          <p:nvPr/>
        </p:nvPicPr>
        <p:blipFill>
          <a:blip r:embed="rId5"/>
          <a:stretch/>
        </p:blipFill>
        <p:spPr>
          <a:xfrm>
            <a:off x="1332000" y="4292640"/>
            <a:ext cx="3357360" cy="2014560"/>
          </a:xfrm>
          <a:prstGeom prst="rect">
            <a:avLst/>
          </a:prstGeom>
          <a:ln w="0">
            <a:noFill/>
          </a:ln>
        </p:spPr>
      </p:pic>
    </p:spTree>
  </p:cSld>
  <p:transition advTm="6000">
    <p:split dir="in" orient="ver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496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Times New Roman"/>
              </a:rPr>
              <a:t>Налоги на совокупный дох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Object 7"/>
          <p:cNvGraphicFramePr/>
          <p:nvPr/>
        </p:nvGraphicFramePr>
        <p:xfrm>
          <a:off x="-257040" y="1486080"/>
          <a:ext cx="4962240" cy="389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57040" y="1486080"/>
                    <a:ext cx="4962240" cy="38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6" name="Picture 9" descr="1326962390_519a2ebdbd25743ea1a5baefebd2a85d"/>
          <p:cNvPicPr/>
          <p:nvPr/>
        </p:nvPicPr>
        <p:blipFill>
          <a:blip r:embed="rId3"/>
          <a:stretch/>
        </p:blipFill>
        <p:spPr>
          <a:xfrm>
            <a:off x="5364000" y="0"/>
            <a:ext cx="2811600" cy="3214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3" descr="8766539525"/>
          <p:cNvPicPr/>
          <p:nvPr/>
        </p:nvPicPr>
        <p:blipFill>
          <a:blip r:embed="rId4"/>
          <a:stretch/>
        </p:blipFill>
        <p:spPr>
          <a:xfrm>
            <a:off x="5435640" y="3643200"/>
            <a:ext cx="2820960" cy="2971800"/>
          </a:xfrm>
          <a:prstGeom prst="rect">
            <a:avLst/>
          </a:prstGeom>
          <a:ln w="0">
            <a:noFill/>
          </a:ln>
        </p:spPr>
      </p:pic>
    </p:spTree>
  </p:cSld>
  <p:transition advTm="5000"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036000" cy="10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Безвозмездные поступления из областного бюджета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за 2020 год (в сравнении с 2018 и 2019 г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Object 4"/>
          <p:cNvGraphicFramePr/>
          <p:nvPr/>
        </p:nvGraphicFramePr>
        <p:xfrm>
          <a:off x="79200" y="982800"/>
          <a:ext cx="9164880" cy="518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" y="982800"/>
                    <a:ext cx="9164880" cy="51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Picture 9" descr="81a709653a20b3944532620b1242f338"/>
          <p:cNvPicPr/>
          <p:nvPr/>
        </p:nvPicPr>
        <p:blipFill>
          <a:blip r:embed="rId3"/>
          <a:stretch/>
        </p:blipFill>
        <p:spPr>
          <a:xfrm>
            <a:off x="0" y="1989000"/>
            <a:ext cx="3886200" cy="2590920"/>
          </a:xfrm>
          <a:prstGeom prst="rect">
            <a:avLst/>
          </a:prstGeom>
          <a:ln w="0">
            <a:noFill/>
          </a:ln>
        </p:spPr>
      </p:pic>
    </p:spTree>
  </p:cSld>
  <p:transition advTm="9000">
    <p:pull dir="u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Структура расходов бюджета Золотухинского района Курской области </a:t>
            </a:r>
            <a:br>
              <a:rPr sz="1800"/>
            </a:b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по разделам функциональной классификации за 2020 год </a:t>
            </a:r>
            <a:br>
              <a:rPr sz="1800"/>
            </a:b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(в сравнении с 2018 и 2019 г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79280" y="771480"/>
          <a:ext cx="8785440" cy="5997600"/>
        </p:xfrm>
        <a:graphic>
          <a:graphicData uri="http://schemas.openxmlformats.org/drawingml/2006/table">
            <a:tbl>
              <a:tblPr/>
              <a:tblGrid>
                <a:gridCol w="647640"/>
                <a:gridCol w="3097440"/>
                <a:gridCol w="1727280"/>
                <a:gridCol w="1728720"/>
                <a:gridCol w="158436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 го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 го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 го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52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8 493,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1 749,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6 265,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76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ом числе: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 275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446,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 523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943,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842,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530,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 652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4 044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2 997,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0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 757,7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 193,6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279,6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храна окружающей среды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0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зование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4 612,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6 680,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4 269,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51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а, кинематографи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 103,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 434,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 244,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дравоохранение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,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1,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9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0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 667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 636,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 551,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50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2,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,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6,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42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бюджетные трансферты общего характера бюджетам субъектов Российской Федерации и муниципальных образований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717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691,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 464,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 spd="med" advTm="20000">
    <p:cover dir="r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3200" y="326880"/>
            <a:ext cx="8877600" cy="4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Структура расходов бюджета Золотухинского района Курской области </a:t>
            </a:r>
            <a:br>
              <a:rPr sz="1700"/>
            </a:b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по разделам и подразделам функциональной классификации</a:t>
            </a:r>
            <a:r>
              <a:rPr b="1" lang="en-US" sz="1700" spc="-1" strike="noStrike">
                <a:solidFill>
                  <a:srgbClr val="cc0000"/>
                </a:solidFill>
                <a:latin typeface="Times New Roman"/>
              </a:rPr>
              <a:t> [1]</a:t>
            </a: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54160" y="1057320"/>
          <a:ext cx="7939080" cy="5119560"/>
        </p:xfrm>
        <a:graphic>
          <a:graphicData uri="http://schemas.openxmlformats.org/drawingml/2006/table">
            <a:tbl>
              <a:tblPr/>
              <a:tblGrid>
                <a:gridCol w="857160"/>
                <a:gridCol w="4025880"/>
                <a:gridCol w="1547640"/>
                <a:gridCol w="150840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, подраздел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усмотрено на 2020 год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полнено за 2020 год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613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7 934,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6 265,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476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ом числе: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2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 538,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 523,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493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0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ункционирование высшего должностного лица субъекта Российской Федерации и муниципального образования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806,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693,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96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0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ункционирование законодательных (представительных) органов государственной власти и представительных органов муниципальных образований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4,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7,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96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0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ункционирование Правительства Российской Федерации, высших исполнительных органов государственной власти субъектов Российской Федерации, местных администраций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 258,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358,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16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0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дебная систем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96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0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еспечение деятельности финансовых, налоговых и таможенных органов и органов финансового (финансово-бюджетного) надзор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457,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419,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57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0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еспечение проведения выборов и референдумов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57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1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зервные фонды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,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54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1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общегосударственные вопросы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 332,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672,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 spd="med" advTm="5000">
    <p:zoom dir="ou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3200" y="326880"/>
            <a:ext cx="8877600" cy="4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Структура расходов областного бюджета Курской области </a:t>
            </a:r>
            <a:br>
              <a:rPr sz="1700"/>
            </a:b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по разделам и подразделам функциональной классификации</a:t>
            </a:r>
            <a:r>
              <a:rPr b="1" lang="en-US" sz="1700" spc="-1" strike="noStrike">
                <a:solidFill>
                  <a:srgbClr val="cc0000"/>
                </a:solidFill>
                <a:latin typeface="Times New Roman"/>
              </a:rPr>
              <a:t> [2]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50880" y="1074600"/>
          <a:ext cx="7697880" cy="5051520"/>
        </p:xfrm>
        <a:graphic>
          <a:graphicData uri="http://schemas.openxmlformats.org/drawingml/2006/table">
            <a:tbl>
              <a:tblPr/>
              <a:tblGrid>
                <a:gridCol w="789120"/>
                <a:gridCol w="3590640"/>
                <a:gridCol w="1629000"/>
                <a:gridCol w="168912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, подраздел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усмотрено на 2020 год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полнено за 2020 год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28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855,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530,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596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 0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щита населения и территории от чрезвычайных ситуаций природного и техногенного характера, гражданская оборон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561,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270,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 1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вопросы в области национальной безопасности и правоохранительной деятельност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4,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0,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3 365,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2 997,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 0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анспорт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,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1,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 0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рожное хозяйство (дорожные фонды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 933,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 905,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2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 1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вопросы в области национальной экономик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32,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849,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949,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279,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262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 0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лищное хозяйство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0,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5,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 0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мунальное хозяйство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689,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024,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1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храна окружающей среды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6 0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вопросы в области охраны окружающей среды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7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 spd="med" advTm="5000">
    <p:zoom dir="ou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3200" y="326880"/>
            <a:ext cx="8877600" cy="4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Структура расходов областного бюджета Курской области </a:t>
            </a:r>
            <a:br>
              <a:rPr sz="1700"/>
            </a:b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по разделам и подразделам функциональной классификации</a:t>
            </a:r>
            <a:r>
              <a:rPr b="1" lang="en-US" sz="1700" spc="-1" strike="noStrike">
                <a:solidFill>
                  <a:srgbClr val="cc0000"/>
                </a:solidFill>
                <a:latin typeface="Times New Roman"/>
              </a:rPr>
              <a:t> [</a:t>
            </a: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3</a:t>
            </a:r>
            <a:r>
              <a:rPr b="1" lang="en-US" sz="1700" spc="-1" strike="noStrike">
                <a:solidFill>
                  <a:srgbClr val="cc0000"/>
                </a:solidFill>
                <a:latin typeface="Times New Roman"/>
              </a:rPr>
              <a:t>]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50880" y="1000080"/>
          <a:ext cx="7778880" cy="5873760"/>
        </p:xfrm>
        <a:graphic>
          <a:graphicData uri="http://schemas.openxmlformats.org/drawingml/2006/table">
            <a:tbl>
              <a:tblPr/>
              <a:tblGrid>
                <a:gridCol w="838080"/>
                <a:gridCol w="3357720"/>
                <a:gridCol w="1855800"/>
                <a:gridCol w="1727280"/>
              </a:tblGrid>
              <a:tr h="277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, подраздел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усмотрено на 2020 год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полнено за 2020 год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63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зовани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0 380,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4 269,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263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 0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школьное образовани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 979,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 067,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 0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е образовани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6 201,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8 695,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3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 0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полнительное образование детей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418,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580,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2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 0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лодежная политики и оздоровление детей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277,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54,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3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 0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вопросы в области образования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504,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772,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3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 021,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 244,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262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 0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 766,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 855,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 0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вопросы в области культуры, кинематограф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255,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388,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76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дравоохранени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9,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9,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376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90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нитарно-эпидемиологическое благополучи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9,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9,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1140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 715,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 551,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31104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01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нсионное обеспечение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,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,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1104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03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ое обеспечение населения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 954,5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 504,6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1140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0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храна семьи и детства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 974,6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 986,5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0940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06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вопросы в области социальной политики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655,9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013,9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 spd="med" advTm="5000">
    <p:zoom dir="ou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3200" y="326880"/>
            <a:ext cx="8877600" cy="4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Структура расходов областного бюджета Курской области </a:t>
            </a:r>
            <a:br>
              <a:rPr sz="1700"/>
            </a:b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по разделам и подразделам функциональной классификации</a:t>
            </a:r>
            <a:r>
              <a:rPr b="1" lang="en-US" sz="1700" spc="-1" strike="noStrike">
                <a:solidFill>
                  <a:srgbClr val="cc0000"/>
                </a:solidFill>
                <a:latin typeface="Times New Roman"/>
              </a:rPr>
              <a:t> [</a:t>
            </a: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4</a:t>
            </a:r>
            <a:r>
              <a:rPr b="1" lang="en-US" sz="1700" spc="-1" strike="noStrike">
                <a:solidFill>
                  <a:srgbClr val="cc0000"/>
                </a:solidFill>
                <a:latin typeface="Times New Roman"/>
              </a:rPr>
              <a:t>]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771480" y="1074600"/>
          <a:ext cx="7094520" cy="3673440"/>
        </p:xfrm>
        <a:graphic>
          <a:graphicData uri="http://schemas.openxmlformats.org/drawingml/2006/table">
            <a:tbl>
              <a:tblPr/>
              <a:tblGrid>
                <a:gridCol w="789120"/>
                <a:gridCol w="3289320"/>
                <a:gridCol w="1533240"/>
                <a:gridCol w="148284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, подраздел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усмотрено на 2020 год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полнено за 2020 год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0924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5,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6,3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30924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0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овый спорт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5,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6,3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0524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бюджетные трансферты общего характера бюджетам бюджетной системы Российской Федерации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 464,8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 464,8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70524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 01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на выравнивание бюджетной обеспеченности субъектов Российской Федерации и муниципальных образований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964,8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964,8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0488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 03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чие межбюджетные трансферты общего характера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,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,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36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med" advTm="5000">
    <p:zoom dir="out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Расходы бюджета Золотухинского района на социально-культурную сфе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26"/>
          <p:cNvGrpSpPr/>
          <p:nvPr/>
        </p:nvGrpSpPr>
        <p:grpSpPr>
          <a:xfrm>
            <a:off x="4140360" y="4457880"/>
            <a:ext cx="2514600" cy="2400120"/>
            <a:chOff x="4140360" y="4457880"/>
            <a:chExt cx="2514600" cy="2400120"/>
          </a:xfrm>
        </p:grpSpPr>
        <p:sp>
          <p:nvSpPr>
            <p:cNvPr id="104" name="Rectangle 27"/>
            <p:cNvSpPr/>
            <p:nvPr/>
          </p:nvSpPr>
          <p:spPr>
            <a:xfrm>
              <a:off x="4140360" y="4457880"/>
              <a:ext cx="2514600" cy="24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800080"/>
                  </a:solidFill>
                  <a:latin typeface="Times New Roman"/>
                </a:rPr>
                <a:t>2020 год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Group 28"/>
            <p:cNvGrpSpPr/>
            <p:nvPr/>
          </p:nvGrpSpPr>
          <p:grpSpPr>
            <a:xfrm>
              <a:off x="4597560" y="5143320"/>
              <a:ext cx="1600200" cy="1600200"/>
              <a:chOff x="4597560" y="5143320"/>
              <a:chExt cx="1600200" cy="1600200"/>
            </a:xfrm>
          </p:grpSpPr>
          <p:sp>
            <p:nvSpPr>
              <p:cNvPr id="106" name="Oval 29"/>
              <p:cNvSpPr/>
              <p:nvPr/>
            </p:nvSpPr>
            <p:spPr>
              <a:xfrm>
                <a:off x="4597560" y="5143320"/>
                <a:ext cx="1600200" cy="1600200"/>
              </a:xfrm>
              <a:prstGeom prst="ellipse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76475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Oval 30"/>
              <p:cNvSpPr/>
              <p:nvPr/>
            </p:nvSpPr>
            <p:spPr>
              <a:xfrm>
                <a:off x="5054760" y="5486040"/>
                <a:ext cx="1119600" cy="111924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76764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Times New Roman"/>
                  </a:rPr>
                  <a:t>70,9 %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" name="Rectangle 53"/>
          <p:cNvSpPr/>
          <p:nvPr/>
        </p:nvSpPr>
        <p:spPr>
          <a:xfrm>
            <a:off x="2050920" y="4221000"/>
            <a:ext cx="2514600" cy="24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80"/>
                </a:solidFill>
                <a:latin typeface="Times New Roman"/>
              </a:rPr>
              <a:t>2019 год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55"/>
          <p:cNvSpPr/>
          <p:nvPr/>
        </p:nvSpPr>
        <p:spPr>
          <a:xfrm>
            <a:off x="2508120" y="4906800"/>
            <a:ext cx="1600200" cy="1597320"/>
          </a:xfrm>
          <a:prstGeom prst="ellipse">
            <a:avLst/>
          </a:prstGeom>
          <a:gradFill rotWithShape="0">
            <a:gsLst>
              <a:gs pos="0">
                <a:srgbClr val="ff99cc"/>
              </a:gs>
              <a:gs pos="100000">
                <a:srgbClr val="76475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61" descr="50a33244-e6b8-ed44-e6b8-ed4bf517dca8"/>
          <p:cNvPicPr/>
          <p:nvPr/>
        </p:nvPicPr>
        <p:blipFill>
          <a:blip r:embed="rId1"/>
          <a:stretch/>
        </p:blipFill>
        <p:spPr>
          <a:xfrm>
            <a:off x="6340320" y="4995720"/>
            <a:ext cx="2803680" cy="1862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4" descr="190af5732bd3772060f9962e8fb6fff1"/>
          <p:cNvPicPr/>
          <p:nvPr/>
        </p:nvPicPr>
        <p:blipFill>
          <a:blip r:embed="rId2"/>
          <a:stretch/>
        </p:blipFill>
        <p:spPr>
          <a:xfrm>
            <a:off x="6012000" y="3141720"/>
            <a:ext cx="2811240" cy="1666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5" descr="krkpy"/>
          <p:cNvPicPr/>
          <p:nvPr/>
        </p:nvPicPr>
        <p:blipFill>
          <a:blip r:embed="rId3"/>
          <a:stretch/>
        </p:blipFill>
        <p:spPr>
          <a:xfrm>
            <a:off x="5724360" y="1125360"/>
            <a:ext cx="2786400" cy="18543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68"/>
          <p:cNvSpPr/>
          <p:nvPr/>
        </p:nvSpPr>
        <p:spPr>
          <a:xfrm>
            <a:off x="-6120" y="3572640"/>
            <a:ext cx="594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660066"/>
                </a:solidFill>
                <a:uFillTx/>
                <a:latin typeface="Times New Roman"/>
              </a:rPr>
              <a:t>Доля расходов на социально-культурную сферу в общих расходах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70"/>
          <p:cNvSpPr/>
          <p:nvPr/>
        </p:nvSpPr>
        <p:spPr>
          <a:xfrm>
            <a:off x="0" y="1085400"/>
            <a:ext cx="57326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Times New Roman"/>
              </a:rPr>
              <a:t>Расходы на социально-культурную сферу Золотухинского района Курской области включают в себя следующие направления расходования средств районного бюджета: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Times New Roman"/>
              </a:rPr>
              <a:t>- образование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Times New Roman"/>
              </a:rPr>
              <a:t>социальная политика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Times New Roman"/>
              </a:rPr>
              <a:t>- культура, кинематография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Times New Roman"/>
              </a:rPr>
              <a:t>- физическая культура и спорт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Group 74"/>
          <p:cNvGrpSpPr/>
          <p:nvPr/>
        </p:nvGrpSpPr>
        <p:grpSpPr>
          <a:xfrm>
            <a:off x="0" y="3860640"/>
            <a:ext cx="2514600" cy="2400480"/>
            <a:chOff x="0" y="3860640"/>
            <a:chExt cx="2514600" cy="2400480"/>
          </a:xfrm>
        </p:grpSpPr>
        <p:grpSp>
          <p:nvGrpSpPr>
            <p:cNvPr id="116" name="Group 35"/>
            <p:cNvGrpSpPr/>
            <p:nvPr/>
          </p:nvGrpSpPr>
          <p:grpSpPr>
            <a:xfrm>
              <a:off x="0" y="3860640"/>
              <a:ext cx="2514600" cy="2400480"/>
              <a:chOff x="0" y="3860640"/>
              <a:chExt cx="2514600" cy="2400480"/>
            </a:xfrm>
          </p:grpSpPr>
          <p:sp>
            <p:nvSpPr>
              <p:cNvPr id="117" name="Rectangle 36"/>
              <p:cNvSpPr/>
              <p:nvPr/>
            </p:nvSpPr>
            <p:spPr>
              <a:xfrm>
                <a:off x="0" y="3860640"/>
                <a:ext cx="2514600" cy="240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800080"/>
                    </a:solidFill>
                    <a:latin typeface="Times New Roman"/>
                  </a:rPr>
                  <a:t>2018 год</a:t>
                </a: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Oval 37"/>
              <p:cNvSpPr/>
              <p:nvPr/>
            </p:nvSpPr>
            <p:spPr>
              <a:xfrm>
                <a:off x="457200" y="4546440"/>
                <a:ext cx="1600200" cy="1600560"/>
              </a:xfrm>
              <a:prstGeom prst="ellipse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76475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Group 71"/>
            <p:cNvGrpSpPr/>
            <p:nvPr/>
          </p:nvGrpSpPr>
          <p:grpSpPr>
            <a:xfrm>
              <a:off x="539640" y="4437000"/>
              <a:ext cx="1789200" cy="1708200"/>
              <a:chOff x="539640" y="4437000"/>
              <a:chExt cx="1789200" cy="1708200"/>
            </a:xfrm>
          </p:grpSpPr>
          <p:sp>
            <p:nvSpPr>
              <p:cNvPr id="120" name="Rectangle 72"/>
              <p:cNvSpPr/>
              <p:nvPr/>
            </p:nvSpPr>
            <p:spPr>
              <a:xfrm>
                <a:off x="539640" y="4437000"/>
                <a:ext cx="1789200" cy="170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Oval 73"/>
              <p:cNvSpPr/>
              <p:nvPr/>
            </p:nvSpPr>
            <p:spPr>
              <a:xfrm>
                <a:off x="864720" y="4924800"/>
                <a:ext cx="1138680" cy="113904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76764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Times New Roman"/>
                  </a:rPr>
                  <a:t>70,5 %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" name="Oval 75"/>
          <p:cNvSpPr/>
          <p:nvPr/>
        </p:nvSpPr>
        <p:spPr>
          <a:xfrm>
            <a:off x="2916360" y="5229360"/>
            <a:ext cx="1150920" cy="114912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63,7 %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6000"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5122800" cy="16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Расходы бюджета Золотухинского района в 2020 году на образование – </a:t>
            </a:r>
            <a:br>
              <a:rPr sz="2000"/>
            </a:b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364 269,7 тыс. руб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Object 8"/>
          <p:cNvGraphicFramePr/>
          <p:nvPr/>
        </p:nvGraphicFramePr>
        <p:xfrm>
          <a:off x="142920" y="1859040"/>
          <a:ext cx="7581960" cy="449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1859040"/>
                    <a:ext cx="7581960" cy="44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6" name="Picture 12" descr="197"/>
          <p:cNvPicPr/>
          <p:nvPr/>
        </p:nvPicPr>
        <p:blipFill>
          <a:blip r:embed="rId3"/>
          <a:stretch/>
        </p:blipFill>
        <p:spPr>
          <a:xfrm>
            <a:off x="6227640" y="5213520"/>
            <a:ext cx="2195640" cy="16444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4" descr="bibblio"/>
          <p:cNvPicPr/>
          <p:nvPr/>
        </p:nvPicPr>
        <p:blipFill>
          <a:blip r:embed="rId4"/>
          <a:stretch/>
        </p:blipFill>
        <p:spPr>
          <a:xfrm>
            <a:off x="0" y="1268280"/>
            <a:ext cx="2664000" cy="1446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5" descr="7e2ff2a94d93e2fff55457dc8926d027_M1"/>
          <p:cNvPicPr/>
          <p:nvPr/>
        </p:nvPicPr>
        <p:blipFill>
          <a:blip r:embed="rId5"/>
          <a:stretch/>
        </p:blipFill>
        <p:spPr>
          <a:xfrm>
            <a:off x="6156360" y="0"/>
            <a:ext cx="2289240" cy="2428920"/>
          </a:xfrm>
          <a:prstGeom prst="rect">
            <a:avLst/>
          </a:prstGeom>
          <a:ln w="0">
            <a:noFill/>
          </a:ln>
        </p:spPr>
      </p:pic>
    </p:spTree>
  </p:cSld>
  <p:transition advTm="17000">
    <p:checker dir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02960"/>
            <a:ext cx="8291520" cy="102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Что такое бюджет для граждан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Бюджет для граждан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- это упрощенная версия бюджетного документа, которая использует неформальный язык и доступные форматы, чтобы облегчить для граждан понимание бюджета. Он содержит информационно-аналитический материал, доступный для широкого круга неподготовленных пользовате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blinds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Times New Roman"/>
              </a:rPr>
              <a:t>Расходы бюджета Золотухинского района в 2020 году </a:t>
            </a:r>
            <a:br>
              <a:rPr sz="2800"/>
            </a:br>
            <a:r>
              <a:rPr b="1" lang="ru-RU" sz="2800" spc="-1" strike="noStrike">
                <a:solidFill>
                  <a:srgbClr val="009900"/>
                </a:solidFill>
                <a:latin typeface="Times New Roman"/>
              </a:rPr>
              <a:t>на культуру, кинематографию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 – 29 244,4 тыс. рубле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D:\Документы\ОТ МЕНЯ\ДК.jpg"/>
          <p:cNvPicPr/>
          <p:nvPr/>
        </p:nvPicPr>
        <p:blipFill>
          <a:blip r:embed="rId1"/>
          <a:stretch/>
        </p:blipFill>
        <p:spPr>
          <a:xfrm>
            <a:off x="428760" y="1428840"/>
            <a:ext cx="3357360" cy="3071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1" name="Object 4"/>
          <p:cNvGraphicFramePr/>
          <p:nvPr/>
        </p:nvGraphicFramePr>
        <p:xfrm>
          <a:off x="428760" y="1125360"/>
          <a:ext cx="9191520" cy="4807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8760" y="1125360"/>
                    <a:ext cx="9191520" cy="48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5000">
    <p:cover dir="d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Расходы бюджета Золотухинского района в 2020 году на социальную политику – 85 551,2 тыс. рубле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Object 4"/>
          <p:cNvGraphicFramePr/>
          <p:nvPr/>
        </p:nvGraphicFramePr>
        <p:xfrm>
          <a:off x="-22320" y="1028880"/>
          <a:ext cx="9693360" cy="50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320" y="1028880"/>
                    <a:ext cx="9693360" cy="50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6" name="Picture 5" descr="1JrYlD9Gn3o"/>
          <p:cNvPicPr/>
          <p:nvPr/>
        </p:nvPicPr>
        <p:blipFill>
          <a:blip r:embed="rId3"/>
          <a:stretch/>
        </p:blipFill>
        <p:spPr>
          <a:xfrm>
            <a:off x="0" y="981000"/>
            <a:ext cx="1673280" cy="1673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образов-е"/>
          <p:cNvPicPr/>
          <p:nvPr/>
        </p:nvPicPr>
        <p:blipFill>
          <a:blip r:embed="rId4"/>
          <a:stretch/>
        </p:blipFill>
        <p:spPr>
          <a:xfrm>
            <a:off x="3451320" y="4000680"/>
            <a:ext cx="1681200" cy="1564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000341771_1"/>
          <p:cNvPicPr/>
          <p:nvPr/>
        </p:nvPicPr>
        <p:blipFill>
          <a:blip r:embed="rId5"/>
          <a:stretch/>
        </p:blipFill>
        <p:spPr>
          <a:xfrm>
            <a:off x="1042920" y="2708280"/>
            <a:ext cx="2289240" cy="1550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1JrYlD9Gn3o"/>
          <p:cNvPicPr/>
          <p:nvPr/>
        </p:nvPicPr>
        <p:blipFill>
          <a:blip r:embed="rId6"/>
          <a:stretch/>
        </p:blipFill>
        <p:spPr>
          <a:xfrm>
            <a:off x="0" y="928800"/>
            <a:ext cx="1673280" cy="1673280"/>
          </a:xfrm>
          <a:prstGeom prst="rect">
            <a:avLst/>
          </a:prstGeom>
          <a:ln w="0">
            <a:noFill/>
          </a:ln>
        </p:spPr>
      </p:pic>
    </p:spTree>
  </p:cSld>
  <p:transition advTm="5000">
    <p:cover dir="d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Муниципальная поддержка национальной экономики в 2020 году – 142 997,5 тыс. руб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Object 4"/>
          <p:cNvGraphicFramePr/>
          <p:nvPr/>
        </p:nvGraphicFramePr>
        <p:xfrm>
          <a:off x="-247680" y="1647720"/>
          <a:ext cx="9534600" cy="4467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47680" y="1647720"/>
                    <a:ext cx="9534600" cy="44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3" name="Picture 5" descr="it"/>
          <p:cNvPicPr/>
          <p:nvPr/>
        </p:nvPicPr>
        <p:blipFill>
          <a:blip r:embed="rId3"/>
          <a:stretch/>
        </p:blipFill>
        <p:spPr>
          <a:xfrm>
            <a:off x="7358040" y="4929120"/>
            <a:ext cx="1500120" cy="15717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0862w_656x525"/>
          <p:cNvPicPr/>
          <p:nvPr/>
        </p:nvPicPr>
        <p:blipFill>
          <a:blip r:embed="rId4"/>
          <a:stretch/>
        </p:blipFill>
        <p:spPr>
          <a:xfrm>
            <a:off x="928800" y="4286160"/>
            <a:ext cx="1587240" cy="1270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1" descr="518a302f-ee77-866b-ee77-866412c04992"/>
          <p:cNvPicPr/>
          <p:nvPr/>
        </p:nvPicPr>
        <p:blipFill>
          <a:blip r:embed="rId5"/>
          <a:stretch/>
        </p:blipFill>
        <p:spPr>
          <a:xfrm>
            <a:off x="5286240" y="5072040"/>
            <a:ext cx="1662120" cy="10764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C:\Users\1\Desktop\Мои рисунки\i.jpg"/>
          <p:cNvPicPr/>
          <p:nvPr/>
        </p:nvPicPr>
        <p:blipFill>
          <a:blip r:embed="rId6"/>
          <a:stretch/>
        </p:blipFill>
        <p:spPr>
          <a:xfrm>
            <a:off x="2700360" y="4933800"/>
            <a:ext cx="2087640" cy="1303560"/>
          </a:xfrm>
          <a:prstGeom prst="rect">
            <a:avLst/>
          </a:prstGeom>
          <a:ln w="0">
            <a:noFill/>
          </a:ln>
        </p:spPr>
      </p:pic>
    </p:spTree>
  </p:cSld>
  <p:transition advTm="10000">
    <p:diamond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6804000" cy="21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Расходы бюджета Золотухинского района</a:t>
            </a:r>
            <a:br>
              <a:rPr sz="2400"/>
            </a:b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в 2020 году на физическую культуру</a:t>
            </a:r>
            <a:br>
              <a:rPr sz="2400"/>
            </a:b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и спорт – 126,3 тыс. 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Object 4"/>
          <p:cNvGraphicFramePr/>
          <p:nvPr/>
        </p:nvGraphicFramePr>
        <p:xfrm>
          <a:off x="163440" y="1676520"/>
          <a:ext cx="9226800" cy="4809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440" y="1676520"/>
                    <a:ext cx="9226800" cy="48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0" name="Picture 7" descr="x600_8681"/>
          <p:cNvPicPr/>
          <p:nvPr/>
        </p:nvPicPr>
        <p:blipFill>
          <a:blip r:embed="rId3"/>
          <a:stretch/>
        </p:blipFill>
        <p:spPr>
          <a:xfrm>
            <a:off x="714240" y="4143240"/>
            <a:ext cx="2016360" cy="1344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5596574"/>
          <p:cNvPicPr/>
          <p:nvPr/>
        </p:nvPicPr>
        <p:blipFill>
          <a:blip r:embed="rId4"/>
          <a:stretch/>
        </p:blipFill>
        <p:spPr>
          <a:xfrm>
            <a:off x="4643280" y="4214880"/>
            <a:ext cx="1957680" cy="1303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morninggym4_3"/>
          <p:cNvPicPr/>
          <p:nvPr/>
        </p:nvPicPr>
        <p:blipFill>
          <a:blip r:embed="rId5"/>
          <a:stretch/>
        </p:blipFill>
        <p:spPr>
          <a:xfrm>
            <a:off x="4643280" y="2500200"/>
            <a:ext cx="2025720" cy="13255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spartakiada"/>
          <p:cNvPicPr/>
          <p:nvPr/>
        </p:nvPicPr>
        <p:blipFill>
          <a:blip r:embed="rId6"/>
          <a:stretch/>
        </p:blipFill>
        <p:spPr>
          <a:xfrm>
            <a:off x="7143840" y="0"/>
            <a:ext cx="2000160" cy="13287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3" descr="11403_6621"/>
          <p:cNvPicPr/>
          <p:nvPr/>
        </p:nvPicPr>
        <p:blipFill>
          <a:blip r:embed="rId7"/>
          <a:stretch/>
        </p:blipFill>
        <p:spPr>
          <a:xfrm>
            <a:off x="785880" y="2500200"/>
            <a:ext cx="2004840" cy="1335240"/>
          </a:xfrm>
          <a:prstGeom prst="rect">
            <a:avLst/>
          </a:prstGeom>
          <a:ln w="0">
            <a:noFill/>
          </a:ln>
        </p:spPr>
      </p:pic>
    </p:spTree>
  </p:cSld>
  <p:transition advTm="15000">
    <p:dissolv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98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7138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«Программная» структура расходов </a:t>
            </a:r>
            <a:br>
              <a:rPr sz="3200"/>
            </a:b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 бюджета Золотухинского района за 2020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14200" y="1143000"/>
          <a:ext cx="8286840" cy="5143680"/>
        </p:xfrm>
        <a:graphic>
          <a:graphicData uri="http://schemas.openxmlformats.org/drawingml/2006/table">
            <a:tbl>
              <a:tblPr/>
              <a:tblGrid>
                <a:gridCol w="5416560"/>
                <a:gridCol w="1650960"/>
                <a:gridCol w="1219320"/>
              </a:tblGrid>
              <a:tr h="635040">
                <a:tc>
                  <a:txBody>
                    <a:bodyPr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96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0 год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тыс. рублей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898560"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а, всего: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6 265,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57200">
                <a:tc>
                  <a:txBody>
                    <a:bodyPr lIns="36000" rIns="36000" tIns="36000" bIns="36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898560">
                <a:tc>
                  <a:txBody>
                    <a:bodyPr lIns="36000" rIns="36000" tIns="36000" bIns="36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на реализацию муниципальных программ Золотухинского района Курской област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2 186,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,4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06520">
                <a:tc>
                  <a:txBody>
                    <a:bodyPr lIns="36000" rIns="36000" tIns="36000" bIns="36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на непрограммную деятельность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 079,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5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</p:spTree>
  </p:cSld>
  <p:transition advTm="10000">
    <p:fad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cc0000"/>
                </a:solidFill>
                <a:latin typeface="Times New Roman"/>
              </a:rPr>
              <a:t>Исполнение бюджета Золотухинского района за 2020 год </a:t>
            </a:r>
            <a:br>
              <a:rPr sz="2300"/>
            </a:br>
            <a:r>
              <a:rPr b="1" lang="ru-RU" sz="2300" spc="-1" strike="noStrike">
                <a:solidFill>
                  <a:srgbClr val="cc0000"/>
                </a:solidFill>
                <a:latin typeface="Times New Roman"/>
              </a:rPr>
              <a:t>в разрезе муниципальных программ  </a:t>
            </a:r>
            <a:r>
              <a:rPr b="1" lang="en-US" sz="2300" spc="-1" strike="noStrike">
                <a:solidFill>
                  <a:srgbClr val="cc0000"/>
                </a:solidFill>
                <a:latin typeface="Times New Roman"/>
              </a:rPr>
              <a:t>[1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1280" y="90756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ходы на реализацию муниципальных программ Золотухинского района Курской области – 652 186,4 тыс. рублей, в том числе по направления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571680" y="1571760"/>
          <a:ext cx="8229600" cy="4641840"/>
        </p:xfrm>
        <a:graphic>
          <a:graphicData uri="http://schemas.openxmlformats.org/drawingml/2006/table">
            <a:tbl>
              <a:tblPr/>
              <a:tblGrid>
                <a:gridCol w="6960960"/>
                <a:gridCol w="1268640"/>
              </a:tblGrid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муниципальной программ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,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07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культуры в Золотухинском районе Курской област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 061,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ая  поддержка граждан в Золотухинском районе Курской области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 719,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образования в  Золотухинском районе Курской област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6 243,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ение муниципальным имуществом Золотухинского района Курской област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5,5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нергосбережение и повышение  энергетической эффективности в Золотухинском районе Курской области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6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храна окружающей среды   Золотухинского района  Курской област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9,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ение доступным и комфортным жильем и коммунальными услугами граждан в Золотухинском районе Курской област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665,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. Повышение эффективности  развития молодежной политики, совершенствование   системы оздоровления и отдыха детей, развитие  физической культуры и спорта  в Золотухинском районе Курской област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280,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Развитие  муниципальной службы  в Золотухинском районе  Курской  област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хранение и развитие архивного дела  в  Золотухинском  районе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1,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Rectangle 115"/>
          <p:cNvSpPr/>
          <p:nvPr/>
        </p:nvSpPr>
        <p:spPr>
          <a:xfrm>
            <a:off x="578520" y="6381720"/>
            <a:ext cx="7951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* Нумерация муниципальных программ  указана в соответствии с присвоенными им кодами для отражения в бюджете Золотухинского района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1000">
    <p:wheel spokes="8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cc0000"/>
                </a:solidFill>
                <a:latin typeface="Times New Roman"/>
              </a:rPr>
              <a:t>Исполнение бюджета Золотухинского района за 2020</a:t>
            </a:r>
            <a:br>
              <a:rPr sz="2300"/>
            </a:br>
            <a:r>
              <a:rPr b="1" lang="ru-RU" sz="2300" spc="-1" strike="noStrike">
                <a:solidFill>
                  <a:srgbClr val="cc0000"/>
                </a:solidFill>
                <a:latin typeface="Times New Roman"/>
              </a:rPr>
              <a:t> год в разрезе муниципальных программ </a:t>
            </a:r>
            <a:r>
              <a:rPr b="1" lang="en-US" sz="2300" spc="-1" strike="noStrike">
                <a:solidFill>
                  <a:srgbClr val="cc0000"/>
                </a:solidFill>
                <a:latin typeface="Times New Roman"/>
              </a:rPr>
              <a:t> [2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1280" y="90756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ходы на реализацию муниципальных программ Золотухинского района Курской области – 652 186,4 тыс.рублей, в том числе по направления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539640" y="1773360"/>
          <a:ext cx="8229600" cy="3978000"/>
        </p:xfrm>
        <a:graphic>
          <a:graphicData uri="http://schemas.openxmlformats.org/drawingml/2006/table">
            <a:tbl>
              <a:tblPr/>
              <a:tblGrid>
                <a:gridCol w="6635880"/>
                <a:gridCol w="1593720"/>
              </a:tblGrid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государственной программ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,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87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 транспортной системы и обеспечение перевозки пассажиров в Золотухинском районе Курской области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6 579,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актика правонарушений в Золотухинском районе Курской области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8,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щита населения и территории от чрезвычайных ситуаций, обеспечение пожарной безопасности и безопасности людей на водных объектах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109,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0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условий для эффективного и ответственного управления муниципальными финансами, муниципальным долгом и повышения устойчивости бюджетов Золотухинского района Курской области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 376,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условий для развития торговли, малого и среднего предпринимательства     в Золотухинском районе  Курской област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ное развитие сельских территорий Золотухинского района Курской област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 432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йствие занятости населения и улучшение  условий  и охраны труда в Золотухинском районе Курской област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5,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0000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Межбюджетные трансферты бюджетам поселений в 2020  году</a:t>
            </a:r>
            <a:br>
              <a:rPr sz="28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(в сравнении с 2018 и 2019 г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68360" y="1557360"/>
          <a:ext cx="8229600" cy="4703760"/>
        </p:xfrm>
        <a:graphic>
          <a:graphicData uri="http://schemas.openxmlformats.org/drawingml/2006/table">
            <a:tbl>
              <a:tblPr/>
              <a:tblGrid>
                <a:gridCol w="5256000"/>
                <a:gridCol w="935280"/>
                <a:gridCol w="1008000"/>
                <a:gridCol w="10303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казатель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e5176"/>
                        </a:gs>
                        <a:gs pos="100000">
                          <a:srgbClr val="85ae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e5176"/>
                        </a:gs>
                        <a:gs pos="100000">
                          <a:srgbClr val="85ae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e5176"/>
                        </a:gs>
                        <a:gs pos="100000">
                          <a:srgbClr val="85ae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e5176"/>
                        </a:gs>
                        <a:gs pos="100000">
                          <a:srgbClr val="85ae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811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,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ом числе: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943,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943,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055,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30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на выравнивание бюджетной обеспеченности бюджетам поселений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17,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17,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964,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309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бюджетные трансферты, передаваемые бюджетам сельских поселений из бюджетов муниципальных районов на осуществление части полномочий по решению вопросов местного значения в соответствии с заключенными соглашениям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226,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226,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 590,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24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 на оказание финансовой помощи бюджетам поселений в целях обеспечения выполнения их полномочий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,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 advTm="9000">
    <p:cover dir="rd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74760" y="631440"/>
            <a:ext cx="83944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Муниципальный долг Золотухинского района Кур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Object 4" descr=""/>
          <p:cNvPicPr/>
          <p:nvPr/>
        </p:nvPicPr>
        <p:blipFill>
          <a:blip r:embed="rId1"/>
          <a:stretch/>
        </p:blipFill>
        <p:spPr>
          <a:xfrm>
            <a:off x="4638600" y="2914560"/>
            <a:ext cx="3848040" cy="31417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79320" y="3214440"/>
            <a:ext cx="7321680" cy="112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3366"/>
                </a:solidFill>
                <a:uFillTx/>
                <a:latin typeface="Times New Roman"/>
              </a:rPr>
              <a:t>Расходы на обслуживание муниципального долга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801720" y="3714840"/>
          <a:ext cx="7270560" cy="1874880"/>
        </p:xfrm>
        <a:graphic>
          <a:graphicData uri="http://schemas.openxmlformats.org/drawingml/2006/table">
            <a:tbl>
              <a:tblPr/>
              <a:tblGrid>
                <a:gridCol w="2424240"/>
                <a:gridCol w="2422440"/>
                <a:gridCol w="2423880"/>
              </a:tblGrid>
              <a:tr h="482400">
                <a:tc gridSpan="3"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49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4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3333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4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3333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4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3333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587520">
                <a:tc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70" name="Text Box 69"/>
          <p:cNvSpPr/>
          <p:nvPr/>
        </p:nvSpPr>
        <p:spPr>
          <a:xfrm>
            <a:off x="571680" y="1969920"/>
            <a:ext cx="4714560" cy="10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1300" spc="-1" strike="noStrike" u="sng">
                <a:solidFill>
                  <a:srgbClr val="660066"/>
                </a:solidFill>
                <a:uFillTx/>
                <a:latin typeface="Times New Roman"/>
              </a:rPr>
              <a:t>Муниципальный долг</a:t>
            </a:r>
            <a:r>
              <a:rPr b="1" i="1" lang="ru-RU" sz="1300" spc="-1" strike="noStrike">
                <a:solidFill>
                  <a:srgbClr val="800080"/>
                </a:solidFill>
                <a:latin typeface="Times New Roman"/>
              </a:rPr>
              <a:t> – это обязательства, возникающие из муниципальных заимствований (т.е. кредитов, муниципальных ценных бумаг), гарантий по обязательствам третьих лиц, другие обязательства, принятые на себя Золотухинским районом.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ccff99"/>
            </a:gs>
            <a:gs pos="100000">
              <a:srgbClr val="bbe0e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68360" y="404280"/>
            <a:ext cx="81360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Бюджет для граждан» в доступной для широкого круга пользователей форме раскрывает информацию об исполнении бюджета Золотухинского района Курской области за 2020 г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ординаторы проек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.В. Локтионова – начальник финансового управления администрации Золотухинского района Кур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.В. Рыжкова – заместитель начальни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инансового управления администрации Золотухинского района Кур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формация подготовлена финансовым управлением администрации Золотухинского района Кур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формация размещена на сайте администрация-золотухино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ф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Что такое бюдже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Бюджет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–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форма образования и расходования денежных средств, предназначенных для финансового обеспечения задач и функций государства и местного самоуправ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Доходы бюджета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– поступающие в бюджет денежные средства (налоги юридических и физических лиц, штрафы, административные платежи и сборы, финансовая помощь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Расходы бюджета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– выплачиваемые из бюджета денежные средства (социальные выплаты населению, содержание государственных учреждений (образование, здравоохранение и другие), капитальное строительство и друг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wheel spokes="8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b8e3e6"/>
            </a:gs>
          </a:gsLst>
          <a:lin ang="7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184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Контактная информация </a:t>
            </a:r>
            <a:br>
              <a:rPr sz="2800"/>
            </a:b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для взаимодействия с граждана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306020, Курская область, п.Золтухино, ул. Кирова, 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Финансовое управление администрации Золотухинского рай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Кур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тел.: (47151)2-14-43 , (47151)2-16-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Факс: (47151)2-14-4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Е</a:t>
            </a:r>
            <a:r>
              <a:rPr b="0" lang="fr-FR" sz="2000" spc="-1" strike="noStrike">
                <a:solidFill>
                  <a:srgbClr val="003366"/>
                </a:solidFill>
                <a:latin typeface="Times New Roman"/>
              </a:rPr>
              <a:t>-mail: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inyprav-zolotuch@mail.ru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Основные характеристики бюдж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Доходы – Расходы = Дефицит (Профици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Дефицит –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превышение расходов над доход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(принимается решение об источниках покры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дефицита – использовать остатки, взять в дол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Профицит –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превышение доходов над расход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(принимается решение об использовании доходов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накапливать резервы, остатки, погашать дол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newsflash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0000"/>
                </a:solidFill>
                <a:latin typeface="Times New Roman"/>
              </a:rPr>
              <a:t>Основные характеристики исполнения бюджета Золотухинского района Курской области за 2020 год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-57240" y="4827600"/>
            <a:ext cx="246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928800" y="2060640"/>
          <a:ext cx="7072200" cy="3821040"/>
        </p:xfrm>
        <a:graphic>
          <a:graphicData uri="http://schemas.openxmlformats.org/drawingml/2006/table">
            <a:tbl>
              <a:tblPr/>
              <a:tblGrid>
                <a:gridCol w="4836960"/>
                <a:gridCol w="223524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(тыс. рублей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6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Кассовое исполне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оходы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712 334,3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76 265,8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04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рофицит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6 068,4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2000">
    <p:push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Доходы бюдж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"/>
          <p:cNvSpPr/>
          <p:nvPr/>
        </p:nvSpPr>
        <p:spPr>
          <a:xfrm>
            <a:off x="3132000" y="1341360"/>
            <a:ext cx="2778120" cy="24685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66ff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ДОХОДЫ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БЮДЖЕТА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безвозмездные и безвозвратные поступления денежных средств в бюджет 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Oval 4"/>
          <p:cNvSpPr/>
          <p:nvPr/>
        </p:nvSpPr>
        <p:spPr>
          <a:xfrm>
            <a:off x="395280" y="1125360"/>
            <a:ext cx="2556000" cy="2559240"/>
          </a:xfrm>
          <a:prstGeom prst="ellipse">
            <a:avLst/>
          </a:prstGeom>
          <a:gradFill rotWithShape="0">
            <a:gsLst>
              <a:gs pos="0">
                <a:srgbClr val="d6e0ff"/>
              </a:gs>
              <a:gs pos="100000">
                <a:srgbClr val="3366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НАЛОГОВЫЕ ДОХОДЫ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тупления от уплаты налогов, установленных Налоговым кодексом Российской Федерации, например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- налог на доходы физических лиц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государственная пошлина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алоги на совокупный доход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- другие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Oval 5"/>
          <p:cNvSpPr/>
          <p:nvPr/>
        </p:nvSpPr>
        <p:spPr>
          <a:xfrm>
            <a:off x="6300720" y="1268280"/>
            <a:ext cx="2556000" cy="2559240"/>
          </a:xfrm>
          <a:prstGeom prst="ellipse">
            <a:avLst/>
          </a:prstGeom>
          <a:gradFill rotWithShape="0">
            <a:gsLst>
              <a:gs pos="0">
                <a:srgbClr val="ff00ff"/>
              </a:gs>
              <a:gs pos="100000">
                <a:srgbClr val="ff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БЕЗВОЗМЕЗДНЫЕ ПОСТУПЛЕНИЯ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тупления в бюджет на безвозмездной и безвозвратной основе из областного бюджета (дотации, субсидии, субвенции), а также перечисления от физических и юридических лиц (кроме налоговых и неналоговых доходов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6"/>
          <p:cNvSpPr/>
          <p:nvPr/>
        </p:nvSpPr>
        <p:spPr>
          <a:xfrm>
            <a:off x="3132000" y="4076640"/>
            <a:ext cx="2808360" cy="26337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cc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НЕНАЛОГОВЫЕ ДОХОДЫ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тупления от уплаты других пошлин и сборов, установленных законодательством Российской Федерации, а также штрафов за нарушение законодательства, например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доходы от использования муниципального имущества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лата за негативное воздействие на окружающую среду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другие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7"/>
          <p:cNvSpPr/>
          <p:nvPr/>
        </p:nvSpPr>
        <p:spPr>
          <a:xfrm>
            <a:off x="2916360" y="2637000"/>
            <a:ext cx="760320" cy="22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8"/>
          <p:cNvSpPr/>
          <p:nvPr/>
        </p:nvSpPr>
        <p:spPr>
          <a:xfrm flipH="1">
            <a:off x="5435280" y="2637000"/>
            <a:ext cx="865080" cy="29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9"/>
          <p:cNvSpPr/>
          <p:nvPr/>
        </p:nvSpPr>
        <p:spPr>
          <a:xfrm flipV="1">
            <a:off x="4500720" y="3789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9000">
    <p:split dir="out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3200" y="326880"/>
            <a:ext cx="8877600" cy="4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Структура доходов бюджета Золотухинского района Курской области </a:t>
            </a:r>
            <a:br>
              <a:rPr sz="1700"/>
            </a:b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за 2020 год по кодам видов доходов        </a:t>
            </a:r>
            <a:r>
              <a:rPr b="1" lang="en-US" sz="1700" spc="-1" strike="noStrike">
                <a:solidFill>
                  <a:srgbClr val="cc0000"/>
                </a:solidFill>
                <a:latin typeface="Times New Roman"/>
              </a:rPr>
              <a:t>[1]</a:t>
            </a: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54160" y="1057320"/>
          <a:ext cx="8361360" cy="5344920"/>
        </p:xfrm>
        <a:graphic>
          <a:graphicData uri="http://schemas.openxmlformats.org/drawingml/2006/table">
            <a:tbl>
              <a:tblPr/>
              <a:tblGrid>
                <a:gridCol w="1120680"/>
                <a:gridCol w="4021200"/>
                <a:gridCol w="1630080"/>
                <a:gridCol w="158940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 бюджетной классификации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усмотрено на 2020 год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полнено за 2020 год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613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4 394,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2 334,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476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ом числе: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2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1  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оговые и неналоговые доходы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1 000,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5 774,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1  0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оги на прибыль, доходы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8 353,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1 223,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1  0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оги на товары (работы, услуги) реализуемые на территории РФ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773,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612,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74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1  0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885,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135,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1  0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сударственная пошлин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932,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097,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1  0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долженность и перерасчеты по отмененным налогам, сборам и иным обязательным платежам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1  1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ходы от использования имущества, находящегося в государственной и муниципальной собственност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450,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506,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1  1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тежи при пользовании природными ресурсам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,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,6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1  1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ходы от оказания платных услуг и компенсации затрат государств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903,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699,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57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1  14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ходы от продажи материальных и нематериальных активов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 237,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 940,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1  1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дминистративные платежи и сборы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 spd="med" advTm="5000">
    <p:zoom dir="ou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3200" y="326880"/>
            <a:ext cx="8877600" cy="4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Структура доходов бюджета Золотухинского района Курской области </a:t>
            </a:r>
            <a:br>
              <a:rPr sz="1700"/>
            </a:b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за 2020 год по кодам видов доходов        </a:t>
            </a:r>
            <a:r>
              <a:rPr b="1" lang="en-US" sz="1700" spc="-1" strike="noStrike">
                <a:solidFill>
                  <a:srgbClr val="cc0000"/>
                </a:solidFill>
                <a:latin typeface="Times New Roman"/>
              </a:rPr>
              <a:t>[</a:t>
            </a: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en-US" sz="1700" spc="-1" strike="noStrike">
                <a:solidFill>
                  <a:srgbClr val="cc0000"/>
                </a:solidFill>
                <a:latin typeface="Times New Roman"/>
              </a:rPr>
              <a:t>]</a:t>
            </a: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357120" y="1071720"/>
          <a:ext cx="8602560" cy="5113080"/>
        </p:xfrm>
        <a:graphic>
          <a:graphicData uri="http://schemas.openxmlformats.org/drawingml/2006/table">
            <a:tbl>
              <a:tblPr/>
              <a:tblGrid>
                <a:gridCol w="1241640"/>
                <a:gridCol w="4049640"/>
                <a:gridCol w="1676160"/>
                <a:gridCol w="1635120"/>
              </a:tblGrid>
              <a:tr h="355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 бюджетной классификации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усмотрено на 2020 год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полнено за 2020 год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207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1  16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трафы, санкции, возмещение ущерба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,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2,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22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1  1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чие неналоговые доходы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5,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2 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звозмездные поступления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3 393,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6 559,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39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ом числе: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2  0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звозмездные поступления от других бюджетов бюджетной системы Российской Федер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3 341,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6 507,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8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12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2  02 1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бюджетам бюджетной системы Российской Федерации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95,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125,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1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2  02 2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и бюджетам бюджетной системы Российской Федерации (межбюджетные субсидии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7 411,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3 214,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15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2  02 3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бюджетам бюджетной системы Российской Федер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4 186,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9 702,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2  02 4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6,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4,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2  0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чие безвозмездные поступления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3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3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 spd="med" advTm="5000">
    <p:zoom dir="ou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3200" y="326880"/>
            <a:ext cx="8877600" cy="4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Структура доходов бюджета Золотухинского района Курской области </a:t>
            </a:r>
            <a:br>
              <a:rPr sz="1700"/>
            </a:b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за 2020 год по кодам видов доходов        </a:t>
            </a:r>
            <a:r>
              <a:rPr b="1" lang="en-US" sz="1700" spc="-1" strike="noStrike">
                <a:solidFill>
                  <a:srgbClr val="cc0000"/>
                </a:solidFill>
                <a:latin typeface="Times New Roman"/>
              </a:rPr>
              <a:t>[</a:t>
            </a: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3</a:t>
            </a:r>
            <a:r>
              <a:rPr b="1" lang="en-US" sz="1700" spc="-1" strike="noStrike">
                <a:solidFill>
                  <a:srgbClr val="cc0000"/>
                </a:solidFill>
                <a:latin typeface="Times New Roman"/>
              </a:rPr>
              <a:t>]</a:t>
            </a: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54160" y="1057320"/>
          <a:ext cx="8361360" cy="1871640"/>
        </p:xfrm>
        <a:graphic>
          <a:graphicData uri="http://schemas.openxmlformats.org/drawingml/2006/table">
            <a:tbl>
              <a:tblPr/>
              <a:tblGrid>
                <a:gridCol w="1120680"/>
                <a:gridCol w="4021200"/>
                <a:gridCol w="1630080"/>
                <a:gridCol w="1589400"/>
              </a:tblGrid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 бюджетной классификации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усмотрено на 2020 год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полнено за 2020 год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763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2  1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ходы бюджетов бюджетной системы Российской Федерации от возврата остатков субсидий, субвенций и иных межбюджетных трансфертов, имеющих целевое назначение, прошлых лет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2  19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врат остатков субсидий, субвенций и иных межбюджетных трансфертов, имеющих целевое назначение, прошлых лет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382,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382,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 spd="med" advTm="5000">
    <p:zoom dir="ou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9T11:34:59Z</dcterms:created>
  <dc:creator/>
  <dc:description/>
  <dc:language>en-US</dc:language>
  <cp:lastModifiedBy/>
  <dcterms:modified xsi:type="dcterms:W3CDTF">2021-05-27T07:44:35Z</dcterms:modified>
  <cp:revision>435</cp:revision>
  <dc:subject/>
  <dc:title>Слайд 1</dc:title>
</cp:coreProperties>
</file>