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jpeg" ContentType="image/jpeg"/>
  <Override PartName="/ppt/media/image18.jpeg" ContentType="image/jpeg"/>
  <Override PartName="/ppt/media/image17.wmf" ContentType="image/x-wmf"/>
  <Override PartName="/ppt/media/image11.jpeg" ContentType="image/jpeg"/>
  <Override PartName="/ppt/media/image36.jpeg" ContentType="image/jpeg"/>
  <Override PartName="/ppt/media/image12.wmf" ContentType="image/x-wmf"/>
  <Override PartName="/ppt/media/image2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9.wmf" ContentType="image/x-wmf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3.jpeg" ContentType="image/jpeg"/>
  <Override PartName="/ppt/media/image37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2C2F-3847-4272-B6E7-7757D34B34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0596-2538-42CF-B365-B483CC16F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8CD0-C79A-4E02-85AC-F98CA83B2E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E7F-6EA4-4D06-964F-68D7A85F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48A-5E09-4E51-8412-A31ECBF6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CB8-10DF-4240-997B-BE095EC1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D29-297A-4B8D-A066-C189A02A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9A2-9212-47DA-ACC0-6B706518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FCB-E611-49CC-BB8D-E12CDBCB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112-14CF-4A37-AE63-48468AE0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859-0002-43EE-B864-167716C7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8F2-F5A3-48C5-8808-C8FBE306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0DF-2631-4718-AFE7-2F587C77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25E-DBC6-4DC0-8272-E3E1A0BD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990-BECB-4C2A-914B-EDE2771E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26E8-7761-4BCE-B9EC-514032611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ЗОЛОТУХИНСКОГО РАЙОНА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К годовому отчету  об исполнении бюджета Золотухинского района Курской области за 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D:\Документы\ОТ МЕНЯ\zolotuhino.jpg"/>
          <p:cNvPicPr/>
          <p:nvPr/>
        </p:nvPicPr>
        <p:blipFill>
          <a:blip r:embed="rId1"/>
          <a:stretch/>
        </p:blipFill>
        <p:spPr>
          <a:xfrm>
            <a:off x="3595680" y="13208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D:\Документы\ОТ МЕНЯ\zolotukhino_rayon_coa_n9441.gif"/>
          <p:cNvPicPr/>
          <p:nvPr/>
        </p:nvPicPr>
        <p:blipFill>
          <a:blip r:embed="rId2"/>
          <a:stretch/>
        </p:blipFill>
        <p:spPr>
          <a:xfrm>
            <a:off x="4071960" y="285840"/>
            <a:ext cx="771480" cy="99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D:\Документы\ОТ МЕНЯ\0_f6eed_8bfb3d9b_M.jpg"/>
          <p:cNvPicPr/>
          <p:nvPr/>
        </p:nvPicPr>
        <p:blipFill>
          <a:blip r:embed="rId3"/>
          <a:stretch/>
        </p:blipFill>
        <p:spPr>
          <a:xfrm>
            <a:off x="6357960" y="4214880"/>
            <a:ext cx="2286000" cy="157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Documents and Settings\User\Рабочий стол\56264550.jpg"/>
          <p:cNvPicPr/>
          <p:nvPr/>
        </p:nvPicPr>
        <p:blipFill>
          <a:blip r:embed="rId4"/>
          <a:stretch/>
        </p:blipFill>
        <p:spPr>
          <a:xfrm>
            <a:off x="285840" y="4286160"/>
            <a:ext cx="242892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лог на доходы физичес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2"/>
          <p:cNvGraphicFramePr/>
          <p:nvPr/>
        </p:nvGraphicFramePr>
        <p:xfrm>
          <a:off x="3276720" y="409680"/>
          <a:ext cx="5000400" cy="389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09680"/>
                    <a:ext cx="50004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17" descr="917895595"/>
          <p:cNvPicPr/>
          <p:nvPr/>
        </p:nvPicPr>
        <p:blipFill>
          <a:blip r:embed="rId3"/>
          <a:stretch/>
        </p:blipFill>
        <p:spPr>
          <a:xfrm>
            <a:off x="0" y="1052640"/>
            <a:ext cx="3095640" cy="2062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549429"/>
          <p:cNvPicPr/>
          <p:nvPr/>
        </p:nvPicPr>
        <p:blipFill>
          <a:blip r:embed="rId4"/>
          <a:stretch/>
        </p:blipFill>
        <p:spPr>
          <a:xfrm>
            <a:off x="6033960" y="4525920"/>
            <a:ext cx="3110040" cy="233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big_3"/>
          <p:cNvPicPr/>
          <p:nvPr/>
        </p:nvPicPr>
        <p:blipFill>
          <a:blip r:embed="rId5"/>
          <a:stretch/>
        </p:blipFill>
        <p:spPr>
          <a:xfrm>
            <a:off x="1332000" y="4292640"/>
            <a:ext cx="3357360" cy="2014560"/>
          </a:xfrm>
          <a:prstGeom prst="rect">
            <a:avLst/>
          </a:prstGeom>
          <a:ln w="0">
            <a:noFill/>
          </a:ln>
        </p:spPr>
      </p:pic>
    </p:spTree>
  </p:cSld>
  <p:transition advTm="6000">
    <p:split dir="in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Налоги на совокупный 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7"/>
          <p:cNvGraphicFramePr/>
          <p:nvPr/>
        </p:nvGraphicFramePr>
        <p:xfrm>
          <a:off x="-257040" y="1486080"/>
          <a:ext cx="4962240" cy="38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7040" y="1486080"/>
                    <a:ext cx="496224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9" descr="1326962390_519a2ebdbd25743ea1a5baefebd2a85d"/>
          <p:cNvPicPr/>
          <p:nvPr/>
        </p:nvPicPr>
        <p:blipFill>
          <a:blip r:embed="rId3"/>
          <a:stretch/>
        </p:blipFill>
        <p:spPr>
          <a:xfrm>
            <a:off x="5364000" y="0"/>
            <a:ext cx="2811600" cy="321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8766539525"/>
          <p:cNvPicPr/>
          <p:nvPr/>
        </p:nvPicPr>
        <p:blipFill>
          <a:blip r:embed="rId4"/>
          <a:stretch/>
        </p:blipFill>
        <p:spPr>
          <a:xfrm>
            <a:off x="5435640" y="3643200"/>
            <a:ext cx="2820960" cy="29718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езвозмездные поступления из областного бюджета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а 2020 год (в сравнении с 2018 и 2019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79200" y="982800"/>
          <a:ext cx="9164880" cy="51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982800"/>
                    <a:ext cx="9164880" cy="51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9" descr="81a709653a20b3944532620b1242f338"/>
          <p:cNvPicPr/>
          <p:nvPr/>
        </p:nvPicPr>
        <p:blipFill>
          <a:blip r:embed="rId3"/>
          <a:stretch/>
        </p:blipFill>
        <p:spPr>
          <a:xfrm>
            <a:off x="0" y="198900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p:transition advTm="9000">
    <p:pull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Золотухинского района Курской области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за 2020 год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(в сравнении с 2018 и 2019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771480"/>
          <a:ext cx="8785440" cy="5997600"/>
        </p:xfrm>
        <a:graphic>
          <a:graphicData uri="http://schemas.openxmlformats.org/drawingml/2006/table">
            <a:tbl>
              <a:tblPr/>
              <a:tblGrid>
                <a:gridCol w="647640"/>
                <a:gridCol w="3097440"/>
                <a:gridCol w="1727280"/>
                <a:gridCol w="1728720"/>
                <a:gridCol w="1584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 493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1 749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6 265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275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446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523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43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42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30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 652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 044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 997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757,7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193,6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279,6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 61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6 68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4 269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103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434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244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1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66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636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551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1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91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464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1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4160" y="1057320"/>
          <a:ext cx="7939080" cy="5119560"/>
        </p:xfrm>
        <a:graphic>
          <a:graphicData uri="http://schemas.openxmlformats.org/drawingml/2006/table">
            <a:tbl>
              <a:tblPr/>
              <a:tblGrid>
                <a:gridCol w="857160"/>
                <a:gridCol w="4025880"/>
                <a:gridCol w="1547640"/>
                <a:gridCol w="1508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1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7 934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6 265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7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 538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523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06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93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7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258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358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57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19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проведения выборов и референдум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332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72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2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0880" y="1074600"/>
          <a:ext cx="7697880" cy="5051520"/>
        </p:xfrm>
        <a:graphic>
          <a:graphicData uri="http://schemas.openxmlformats.org/drawingml/2006/table">
            <a:tbl>
              <a:tblPr/>
              <a:tblGrid>
                <a:gridCol w="789120"/>
                <a:gridCol w="3590640"/>
                <a:gridCol w="1629000"/>
                <a:gridCol w="16891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855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30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9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61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70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безопасности и правоохранительной деятельност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365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 997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933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 905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32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49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949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279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689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024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храны окружающей сре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50880" y="1000080"/>
          <a:ext cx="7778880" cy="5637240"/>
        </p:xfrm>
        <a:graphic>
          <a:graphicData uri="http://schemas.openxmlformats.org/drawingml/2006/table">
            <a:tbl>
              <a:tblPr/>
              <a:tblGrid>
                <a:gridCol w="838080"/>
                <a:gridCol w="3357720"/>
                <a:gridCol w="1855800"/>
                <a:gridCol w="1727280"/>
              </a:tblGrid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 380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4 269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979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067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 201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 695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18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580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 и оздоровление дет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77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54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504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772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21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244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766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855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255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88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-эпидемиологическое благополуч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715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551,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11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954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504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86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974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986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56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55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13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71480" y="1074600"/>
          <a:ext cx="7094520" cy="3673440"/>
        </p:xfrm>
        <a:graphic>
          <a:graphicData uri="http://schemas.openxmlformats.org/drawingml/2006/table">
            <a:tbl>
              <a:tblPr/>
              <a:tblGrid>
                <a:gridCol w="789120"/>
                <a:gridCol w="3289320"/>
                <a:gridCol w="1533240"/>
                <a:gridCol w="14828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9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9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5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бюджетной системы Российской Федерац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464,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464,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7038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субъектов Российской Федерации и муниципальных образов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64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64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8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межбюджетные трансферты общего характе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Расходы бюджета Золотухинского района на социально-культурную сф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6"/>
          <p:cNvGrpSpPr/>
          <p:nvPr/>
        </p:nvGrpSpPr>
        <p:grpSpPr>
          <a:xfrm>
            <a:off x="4140360" y="4457880"/>
            <a:ext cx="2514600" cy="2400120"/>
            <a:chOff x="4140360" y="4457880"/>
            <a:chExt cx="2514600" cy="2400120"/>
          </a:xfrm>
        </p:grpSpPr>
        <p:sp>
          <p:nvSpPr>
            <p:cNvPr id="104" name="Rectangle 27"/>
            <p:cNvSpPr/>
            <p:nvPr/>
          </p:nvSpPr>
          <p:spPr>
            <a:xfrm>
              <a:off x="4140360" y="4457880"/>
              <a:ext cx="2514600" cy="24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80"/>
                  </a:solidFill>
                  <a:latin typeface="Times New Roman"/>
                </a:rPr>
                <a:t>2020 год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8"/>
            <p:cNvGrpSpPr/>
            <p:nvPr/>
          </p:nvGrpSpPr>
          <p:grpSpPr>
            <a:xfrm>
              <a:off x="4597560" y="5143320"/>
              <a:ext cx="1600200" cy="1600200"/>
              <a:chOff x="4597560" y="5143320"/>
              <a:chExt cx="1600200" cy="1600200"/>
            </a:xfrm>
          </p:grpSpPr>
          <p:sp>
            <p:nvSpPr>
              <p:cNvPr id="106" name="Oval 29"/>
              <p:cNvSpPr/>
              <p:nvPr/>
            </p:nvSpPr>
            <p:spPr>
              <a:xfrm>
                <a:off x="4597560" y="5143320"/>
                <a:ext cx="1600200" cy="160020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76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Oval 30"/>
              <p:cNvSpPr/>
              <p:nvPr/>
            </p:nvSpPr>
            <p:spPr>
              <a:xfrm>
                <a:off x="5054760" y="5486040"/>
                <a:ext cx="1119600" cy="111924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70,9 %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Rectangle 53"/>
          <p:cNvSpPr/>
          <p:nvPr/>
        </p:nvSpPr>
        <p:spPr>
          <a:xfrm>
            <a:off x="2050920" y="4221000"/>
            <a:ext cx="25146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2019 год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55"/>
          <p:cNvSpPr/>
          <p:nvPr/>
        </p:nvSpPr>
        <p:spPr>
          <a:xfrm>
            <a:off x="2508120" y="4906800"/>
            <a:ext cx="1600200" cy="159732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1" descr="50a33244-e6b8-ed44-e6b8-ed4bf517dca8"/>
          <p:cNvPicPr/>
          <p:nvPr/>
        </p:nvPicPr>
        <p:blipFill>
          <a:blip r:embed="rId1"/>
          <a:stretch/>
        </p:blipFill>
        <p:spPr>
          <a:xfrm>
            <a:off x="6340320" y="4995720"/>
            <a:ext cx="2803680" cy="186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4" descr="190af5732bd3772060f9962e8fb6fff1"/>
          <p:cNvPicPr/>
          <p:nvPr/>
        </p:nvPicPr>
        <p:blipFill>
          <a:blip r:embed="rId2"/>
          <a:stretch/>
        </p:blipFill>
        <p:spPr>
          <a:xfrm>
            <a:off x="6012000" y="3141720"/>
            <a:ext cx="2811240" cy="1666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5" descr="krkpy"/>
          <p:cNvPicPr/>
          <p:nvPr/>
        </p:nvPicPr>
        <p:blipFill>
          <a:blip r:embed="rId3"/>
          <a:stretch/>
        </p:blipFill>
        <p:spPr>
          <a:xfrm>
            <a:off x="5724360" y="1125360"/>
            <a:ext cx="2786400" cy="1854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8"/>
          <p:cNvSpPr/>
          <p:nvPr/>
        </p:nvSpPr>
        <p:spPr>
          <a:xfrm>
            <a:off x="-6120" y="3572640"/>
            <a:ext cx="59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660066"/>
                </a:solidFill>
                <a:uFillTx/>
                <a:latin typeface="Times New Roman"/>
              </a:rPr>
              <a:t>Доля расходов на социально-культурную сферу в общих расходах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0"/>
          <p:cNvSpPr/>
          <p:nvPr/>
        </p:nvSpPr>
        <p:spPr>
          <a:xfrm>
            <a:off x="0" y="1085400"/>
            <a:ext cx="5732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Расходы на социально-культурную сферу Золотухинского района Курской области включают в себя следующие направления расходования средств районного бюджета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образование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социальная политика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культура, кинематография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физическая культура и спорт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0" y="3860640"/>
            <a:ext cx="2514600" cy="2400480"/>
            <a:chOff x="0" y="3860640"/>
            <a:chExt cx="2514600" cy="2400480"/>
          </a:xfrm>
        </p:grpSpPr>
        <p:grpSp>
          <p:nvGrpSpPr>
            <p:cNvPr id="116" name="Group 35"/>
            <p:cNvGrpSpPr/>
            <p:nvPr/>
          </p:nvGrpSpPr>
          <p:grpSpPr>
            <a:xfrm>
              <a:off x="0" y="3860640"/>
              <a:ext cx="2514600" cy="2400480"/>
              <a:chOff x="0" y="3860640"/>
              <a:chExt cx="2514600" cy="2400480"/>
            </a:xfrm>
          </p:grpSpPr>
          <p:sp>
            <p:nvSpPr>
              <p:cNvPr id="117" name="Rectangle 36"/>
              <p:cNvSpPr/>
              <p:nvPr/>
            </p:nvSpPr>
            <p:spPr>
              <a:xfrm>
                <a:off x="0" y="3860640"/>
                <a:ext cx="2514600" cy="24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800080"/>
                    </a:solidFill>
                    <a:latin typeface="Times New Roman"/>
                  </a:rPr>
                  <a:t>2018 год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37"/>
              <p:cNvSpPr/>
              <p:nvPr/>
            </p:nvSpPr>
            <p:spPr>
              <a:xfrm>
                <a:off x="457200" y="4546440"/>
                <a:ext cx="1600200" cy="16005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76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71"/>
            <p:cNvGrpSpPr/>
            <p:nvPr/>
          </p:nvGrpSpPr>
          <p:grpSpPr>
            <a:xfrm>
              <a:off x="539640" y="4437000"/>
              <a:ext cx="1789200" cy="1708200"/>
              <a:chOff x="539640" y="4437000"/>
              <a:chExt cx="1789200" cy="1708200"/>
            </a:xfrm>
          </p:grpSpPr>
          <p:sp>
            <p:nvSpPr>
              <p:cNvPr id="120" name="Rectangle 72"/>
              <p:cNvSpPr/>
              <p:nvPr/>
            </p:nvSpPr>
            <p:spPr>
              <a:xfrm>
                <a:off x="539640" y="4437000"/>
                <a:ext cx="1789200" cy="17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73"/>
              <p:cNvSpPr/>
              <p:nvPr/>
            </p:nvSpPr>
            <p:spPr>
              <a:xfrm>
                <a:off x="864720" y="4924800"/>
                <a:ext cx="1138680" cy="113904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70,5 %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Oval 75"/>
          <p:cNvSpPr/>
          <p:nvPr/>
        </p:nvSpPr>
        <p:spPr>
          <a:xfrm>
            <a:off x="2916360" y="5229360"/>
            <a:ext cx="1150920" cy="11491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3,7 %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12280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Расходы бюджета Золотухинского района в 2020 году на образование –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364 269,7 тыс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8"/>
          <p:cNvGraphicFramePr/>
          <p:nvPr/>
        </p:nvGraphicFramePr>
        <p:xfrm>
          <a:off x="142920" y="1859040"/>
          <a:ext cx="7581960" cy="449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859040"/>
                    <a:ext cx="758196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12" descr="197"/>
          <p:cNvPicPr/>
          <p:nvPr/>
        </p:nvPicPr>
        <p:blipFill>
          <a:blip r:embed="rId3"/>
          <a:stretch/>
        </p:blipFill>
        <p:spPr>
          <a:xfrm>
            <a:off x="6227640" y="5213520"/>
            <a:ext cx="2195640" cy="164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bibblio"/>
          <p:cNvPicPr/>
          <p:nvPr/>
        </p:nvPicPr>
        <p:blipFill>
          <a:blip r:embed="rId4"/>
          <a:stretch/>
        </p:blipFill>
        <p:spPr>
          <a:xfrm>
            <a:off x="0" y="1268280"/>
            <a:ext cx="2664000" cy="1446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7e2ff2a94d93e2fff55457dc8926d027_M1"/>
          <p:cNvPicPr/>
          <p:nvPr/>
        </p:nvPicPr>
        <p:blipFill>
          <a:blip r:embed="rId5"/>
          <a:stretch/>
        </p:blipFill>
        <p:spPr>
          <a:xfrm>
            <a:off x="6156360" y="0"/>
            <a:ext cx="2289240" cy="2428920"/>
          </a:xfrm>
          <a:prstGeom prst="rect">
            <a:avLst/>
          </a:prstGeom>
          <a:ln w="0">
            <a:noFill/>
          </a:ln>
        </p:spPr>
      </p:pic>
    </p:spTree>
  </p:cSld>
  <p:transition advTm="17000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02960"/>
            <a:ext cx="8291520" cy="102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Расходы бюджета Золотухинского района в 2020 году 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на культуру, кинематографию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– 29 244,4 тыс. руб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D:\Документы\ОТ МЕНЯ\ДК.jpg"/>
          <p:cNvPicPr/>
          <p:nvPr/>
        </p:nvPicPr>
        <p:blipFill>
          <a:blip r:embed="rId1"/>
          <a:stretch/>
        </p:blipFill>
        <p:spPr>
          <a:xfrm>
            <a:off x="428760" y="1428840"/>
            <a:ext cx="3357360" cy="307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4"/>
          <p:cNvGraphicFramePr/>
          <p:nvPr/>
        </p:nvGraphicFramePr>
        <p:xfrm>
          <a:off x="428760" y="1125360"/>
          <a:ext cx="9191520" cy="480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125360"/>
                    <a:ext cx="919152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асходы бюджета Золотухинского района в 2020 году на социальную политику – 85 551,2 тыс. руб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-22320" y="1028880"/>
          <a:ext cx="969336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320" y="1028880"/>
                    <a:ext cx="969336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Picture 5" descr="1JrYlD9Gn3o"/>
          <p:cNvPicPr/>
          <p:nvPr/>
        </p:nvPicPr>
        <p:blipFill>
          <a:blip r:embed="rId3"/>
          <a:stretch/>
        </p:blipFill>
        <p:spPr>
          <a:xfrm>
            <a:off x="0" y="981000"/>
            <a:ext cx="1673280" cy="167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образов-е"/>
          <p:cNvPicPr/>
          <p:nvPr/>
        </p:nvPicPr>
        <p:blipFill>
          <a:blip r:embed="rId4"/>
          <a:stretch/>
        </p:blipFill>
        <p:spPr>
          <a:xfrm>
            <a:off x="3451320" y="4000680"/>
            <a:ext cx="1681200" cy="156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000341771_1"/>
          <p:cNvPicPr/>
          <p:nvPr/>
        </p:nvPicPr>
        <p:blipFill>
          <a:blip r:embed="rId5"/>
          <a:stretch/>
        </p:blipFill>
        <p:spPr>
          <a:xfrm>
            <a:off x="1042920" y="2708280"/>
            <a:ext cx="2289240" cy="1550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JrYlD9Gn3o"/>
          <p:cNvPicPr/>
          <p:nvPr/>
        </p:nvPicPr>
        <p:blipFill>
          <a:blip r:embed="rId6"/>
          <a:stretch/>
        </p:blipFill>
        <p:spPr>
          <a:xfrm>
            <a:off x="0" y="928800"/>
            <a:ext cx="1673280" cy="167328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униципальная поддержка национальной экономики в 2020 году – 142 997,5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-247680" y="1647720"/>
          <a:ext cx="9534600" cy="44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7680" y="1647720"/>
                    <a:ext cx="95346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5" descr="it"/>
          <p:cNvPicPr/>
          <p:nvPr/>
        </p:nvPicPr>
        <p:blipFill>
          <a:blip r:embed="rId3"/>
          <a:stretch/>
        </p:blipFill>
        <p:spPr>
          <a:xfrm>
            <a:off x="7358040" y="492912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0862w_656x525"/>
          <p:cNvPicPr/>
          <p:nvPr/>
        </p:nvPicPr>
        <p:blipFill>
          <a:blip r:embed="rId4"/>
          <a:stretch/>
        </p:blipFill>
        <p:spPr>
          <a:xfrm>
            <a:off x="928800" y="4286160"/>
            <a:ext cx="1587240" cy="127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518a302f-ee77-866b-ee77-866412c04992"/>
          <p:cNvPicPr/>
          <p:nvPr/>
        </p:nvPicPr>
        <p:blipFill>
          <a:blip r:embed="rId5"/>
          <a:stretch/>
        </p:blipFill>
        <p:spPr>
          <a:xfrm>
            <a:off x="5286240" y="5072040"/>
            <a:ext cx="1662120" cy="107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Users\1\Desktop\Мои рисунки\i.jpg"/>
          <p:cNvPicPr/>
          <p:nvPr/>
        </p:nvPicPr>
        <p:blipFill>
          <a:blip r:embed="rId6"/>
          <a:stretch/>
        </p:blipFill>
        <p:spPr>
          <a:xfrm>
            <a:off x="2700360" y="4933800"/>
            <a:ext cx="2087640" cy="130356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8040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Расходы бюджета Золотухинского района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в 2020 году на физическую культуру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 спорт – 126,3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63440" y="1676520"/>
          <a:ext cx="92268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1676520"/>
                    <a:ext cx="92268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Picture 7" descr="x600_8681"/>
          <p:cNvPicPr/>
          <p:nvPr/>
        </p:nvPicPr>
        <p:blipFill>
          <a:blip r:embed="rId3"/>
          <a:stretch/>
        </p:blipFill>
        <p:spPr>
          <a:xfrm>
            <a:off x="714240" y="4143240"/>
            <a:ext cx="2016360" cy="134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5596574"/>
          <p:cNvPicPr/>
          <p:nvPr/>
        </p:nvPicPr>
        <p:blipFill>
          <a:blip r:embed="rId4"/>
          <a:stretch/>
        </p:blipFill>
        <p:spPr>
          <a:xfrm>
            <a:off x="4643280" y="4214880"/>
            <a:ext cx="1957680" cy="130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morninggym4_3"/>
          <p:cNvPicPr/>
          <p:nvPr/>
        </p:nvPicPr>
        <p:blipFill>
          <a:blip r:embed="rId5"/>
          <a:stretch/>
        </p:blipFill>
        <p:spPr>
          <a:xfrm>
            <a:off x="4643280" y="2500200"/>
            <a:ext cx="2025720" cy="1325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spartakiada"/>
          <p:cNvPicPr/>
          <p:nvPr/>
        </p:nvPicPr>
        <p:blipFill>
          <a:blip r:embed="rId6"/>
          <a:stretch/>
        </p:blipFill>
        <p:spPr>
          <a:xfrm>
            <a:off x="7143840" y="0"/>
            <a:ext cx="2000160" cy="1328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11403_6621"/>
          <p:cNvPicPr/>
          <p:nvPr/>
        </p:nvPicPr>
        <p:blipFill>
          <a:blip r:embed="rId7"/>
          <a:stretch/>
        </p:blipFill>
        <p:spPr>
          <a:xfrm>
            <a:off x="785880" y="2500200"/>
            <a:ext cx="2004840" cy="133524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 бюджета Золотухинского района за 2020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4200" y="1143000"/>
          <a:ext cx="8286840" cy="5143680"/>
        </p:xfrm>
        <a:graphic>
          <a:graphicData uri="http://schemas.openxmlformats.org/drawingml/2006/table">
            <a:tbl>
              <a:tblPr/>
              <a:tblGrid>
                <a:gridCol w="5416560"/>
                <a:gridCol w="1650960"/>
                <a:gridCol w="1219320"/>
              </a:tblGrid>
              <a:tr h="635040">
                <a:tc>
                  <a:txBody>
                    <a:bodyPr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6 265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Золотухинского района Курской обла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2 186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079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Исполнение бюджета Золотухинского района за 2020 год </a:t>
            </a:r>
            <a:br>
              <a:rPr sz="2300"/>
            </a:b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1" lang="en-US" sz="23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Золотухинского района Курской области – 652 186,4 тыс. рублей, в том числе по направлени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71680" y="1571760"/>
          <a:ext cx="8229600" cy="4641840"/>
        </p:xfrm>
        <a:graphic>
          <a:graphicData uri="http://schemas.openxmlformats.org/drawingml/2006/table">
            <a:tbl>
              <a:tblPr/>
              <a:tblGrid>
                <a:gridCol w="6960960"/>
                <a:gridCol w="126864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ультуры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061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 поддержка граждан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 719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образования в 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 243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муниципальным имуществом Золотухинского района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5,5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сбережение и повышение  энергетической эффективности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окружающей среды   Золотухинского района 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9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оступным и комфортным жильем и коммунальными услугами граждан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65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 Повышение эффективности  развития молодежной политики, совершенствование   системы оздоровления и отдыха детей, развитие  физической культуры и спорта 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0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Развитие  муниципальной службы  в Золотухинском районе  Курской 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и развитие архивного дела  в  Золотухинском  рай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1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115"/>
          <p:cNvSpPr/>
          <p:nvPr/>
        </p:nvSpPr>
        <p:spPr>
          <a:xfrm>
            <a:off x="578520" y="6381720"/>
            <a:ext cx="795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* Нумерация муниципальных программ  указана в соответствии с присвоенными им кодами для отражения в бюджете Золотухинского район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1000">
    <p:wheel spokes="8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Исполнение бюджета Золотухинского района за 2020</a:t>
            </a:r>
            <a:br>
              <a:rPr sz="2300"/>
            </a:b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 год в разрезе муниципальных программ </a:t>
            </a:r>
            <a:r>
              <a:rPr b="1" lang="en-US" sz="2300" spc="-1" strike="noStrike">
                <a:solidFill>
                  <a:srgbClr val="cc0000"/>
                </a:solidFill>
                <a:latin typeface="Times New Roman"/>
              </a:rPr>
              <a:t> [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Золотухинского района Курской области – 652 186,4 тыс.рублей, в том числе по направлени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773360"/>
          <a:ext cx="8229600" cy="3978000"/>
        </p:xfrm>
        <a:graphic>
          <a:graphicData uri="http://schemas.openxmlformats.org/drawingml/2006/table">
            <a:tbl>
              <a:tblPr/>
              <a:tblGrid>
                <a:gridCol w="6635880"/>
                <a:gridCol w="159372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 транспортной системы и обеспечение перевозки пассажиров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 579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 правонарушений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8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09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эффективного и ответственного управления муниципальными финансами, муниципальным долгом и повышения устойчивости бюджетов Золотухинского района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376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развития торговли, малого и среднего предпринимательства     в Золотухинском районе 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ое развитие сельских территорий Золотухинского района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432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ие занятости населения и улучшение  условий  и охраны труда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5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Межбюджетные трансферты бюджетам поселений в 2020  году</a:t>
            </a:r>
            <a:br>
              <a:rPr sz="28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(в сравнении с 2018 и 2019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557360"/>
          <a:ext cx="8229600" cy="4422600"/>
        </p:xfrm>
        <a:graphic>
          <a:graphicData uri="http://schemas.openxmlformats.org/drawingml/2006/table">
            <a:tbl>
              <a:tblPr/>
              <a:tblGrid>
                <a:gridCol w="5256000"/>
                <a:gridCol w="935280"/>
                <a:gridCol w="1008000"/>
                <a:gridCol w="1030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11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943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335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055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3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бюджетам поселен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1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91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64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передаваемые бюджетам сельских поселений из бюджетов муниципальных районов на осуществление части полномочий по решению вопросов местного значения в соответствии с заключенными соглашениям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226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644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 590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 на оказание финансовой помощи бюджетам поселений в целях обеспечения выполнения их полномоч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advTm="9000">
    <p:cover dir="r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solidFill>
            <a:srgbClr val="ccccff"/>
          </a:solidFill>
          <a:ln w="9360">
            <a:solidFill>
              <a:srgbClr val="6b6bc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 ОБ ОБЪЕМАХ СРЕДСТВ НА РЕАЛИЗАЦИЮ НАЦИОНАЛЬНЫХ ПРОЕКТОВ В 2020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1484280"/>
          <a:ext cx="8275680" cy="5113440"/>
        </p:xfrm>
        <a:graphic>
          <a:graphicData uri="http://schemas.openxmlformats.org/drawingml/2006/table">
            <a:tbl>
              <a:tblPr/>
              <a:tblGrid>
                <a:gridCol w="5405400"/>
                <a:gridCol w="1577880"/>
                <a:gridCol w="12924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ационального проек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едерального проекта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в 2020 год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0352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ациональный проект «Образование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проект «Современная школа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2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02,2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72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проект «Успех каждого ребенка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6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проект «Цифровая образовательная среда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10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09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479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ациональный проект «Демография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проект «Содействие занятости женщин – создание условий дошкольного образования детей в возрасте до трех лет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09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3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031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ациональный проект «Безопасные и качественные автомобильные дороги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проект «Дорожная сеть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191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191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192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 995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197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4760" y="631440"/>
            <a:ext cx="83944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Золотухинского района 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4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9320" y="3214440"/>
            <a:ext cx="7321680" cy="11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01720" y="3714840"/>
          <a:ext cx="7270560" cy="1874880"/>
        </p:xfrm>
        <a:graphic>
          <a:graphicData uri="http://schemas.openxmlformats.org/drawingml/2006/table">
            <a:tbl>
              <a:tblPr/>
              <a:tblGrid>
                <a:gridCol w="2424240"/>
                <a:gridCol w="2422440"/>
                <a:gridCol w="2423880"/>
              </a:tblGrid>
              <a:tr h="482400">
                <a:tc gridSpan="3"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4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8752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69"/>
          <p:cNvSpPr/>
          <p:nvPr/>
        </p:nvSpPr>
        <p:spPr>
          <a:xfrm>
            <a:off x="571680" y="1969920"/>
            <a:ext cx="471456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1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Золотухинским районом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Бюджет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Доходы бюджет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поступающие в бюджет денежные средства (налоги юридических и физических лиц, штрафы, административные платежи и сборы, финансовая помощ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Расходы бюджет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выплачиваемые из бюджета денежные средства (социальные выплаты населению, содержание государственных учреждений (образование, здравоохранение и другие), капитальное строительство и друг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б исполнении бюджета Золотухинского района Курской области за 2020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В. Локтионова – начальник финансового управления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В. Рыжкова – заместитель нача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ового управления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финансовым управлением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размещена на сайте администрация-золотухи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b8e3e6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020, Курская область, п.Золтухино, ул. Кирова,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инансовое управление администрации Золотухи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1)2-14-43 , (47151)2-16-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1)2-14-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nyprav-zolotuch@mail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ефицит –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вышение расходов над до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официт –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вышение доходов над рас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исполнения бюджета Золотухинского района Курской области за 2020 год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28800" y="2060640"/>
          <a:ext cx="7072200" cy="3821040"/>
        </p:xfrm>
        <a:graphic>
          <a:graphicData uri="http://schemas.openxmlformats.org/drawingml/2006/table">
            <a:tbl>
              <a:tblPr/>
              <a:tblGrid>
                <a:gridCol w="4836960"/>
                <a:gridCol w="22352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12 334,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76 265,8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 068,4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2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d6e0ff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H="1">
            <a:off x="5435280" y="2637000"/>
            <a:ext cx="865080" cy="2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 flipV="1">
            <a:off x="4500720" y="3789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9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20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1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4160" y="1057320"/>
          <a:ext cx="8361360" cy="5344920"/>
        </p:xfrm>
        <a:graphic>
          <a:graphicData uri="http://schemas.openxmlformats.org/drawingml/2006/table">
            <a:tbl>
              <a:tblPr/>
              <a:tblGrid>
                <a:gridCol w="1120680"/>
                <a:gridCol w="4021200"/>
                <a:gridCol w="1630080"/>
                <a:gridCol w="1589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1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4 394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2 334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7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 000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 774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прибыль, дохо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 353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 223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товары (работы, услуги) реализуемые на территории РФ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73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12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85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35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32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97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олженность и перерасчеты по отмененным налогам, сборам и иным обязательным платежам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50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506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ежи при пользовании природными ресурсам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6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и компенсации затрат государств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03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99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237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940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 платежи и сборы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20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57120" y="1071720"/>
          <a:ext cx="8602560" cy="5113080"/>
        </p:xfrm>
        <a:graphic>
          <a:graphicData uri="http://schemas.openxmlformats.org/drawingml/2006/table">
            <a:tbl>
              <a:tblPr/>
              <a:tblGrid>
                <a:gridCol w="1241640"/>
                <a:gridCol w="4049640"/>
                <a:gridCol w="1676160"/>
                <a:gridCol w="1635120"/>
              </a:tblGrid>
              <a:tr h="35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,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2,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5,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3 393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6 559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 от других бюджетов бюджетной системы Российской Федер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3 341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6 507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бюджетной системы Российской Федерации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95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25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бюджетной системы Российской Федерации (межбюджетные субсидии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7 411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214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бюджетной системы Российской Федер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4 186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 702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4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3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3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20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4160" y="1057320"/>
          <a:ext cx="8361360" cy="1871640"/>
        </p:xfrm>
        <a:graphic>
          <a:graphicData uri="http://schemas.openxmlformats.org/drawingml/2006/table">
            <a:tbl>
              <a:tblPr/>
              <a:tblGrid>
                <a:gridCol w="1120680"/>
                <a:gridCol w="4021200"/>
                <a:gridCol w="1630080"/>
                <a:gridCol w="15894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6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1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бюджетов бюджетной системы Российской Федерации от возврата остатков субсидий, субвенций и иных межбюджетных трансфертов, имеющих целевое назначение, прошлых лет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19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382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382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/>
  <dcterms:modified xsi:type="dcterms:W3CDTF">2021-05-27T11:15:25Z</dcterms:modified>
  <cp:revision>435</cp:revision>
  <dc:subject/>
  <dc:title>Слайд 1</dc:title>
</cp:coreProperties>
</file>